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B97-1656-4FF2-91B3-C4039BA0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CB8-BD47-412A-A5F3-F137CC3D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C6A-9BDA-4A49-808A-F7BA567C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959-ABB8-4A81-9F71-A546A40D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D3A-918D-4740-9CE6-6482C946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20A-93C3-4059-B7BD-E8A8E048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81D-A1B5-42B1-8311-B448B707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A82-CB99-4973-96B1-44F0ED17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99F-C9EC-454B-96E1-B5D09C80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208-71E9-4C3B-8360-6819E1B3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96F-AB94-496E-A7D2-A29016C5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53E-3F1E-47CB-83A0-EC86F19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c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0800-11CD-4531-82D6-B047E77C51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27280" y="836640"/>
            <a:ext cx="3600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ect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ry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es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411280" y="5300640"/>
            <a:ext cx="4753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fa-I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                   </a:t>
            </a:r>
            <a:r>
              <a:rPr b="1" lang="fa-I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: Operating System Concepts</a:t>
            </a: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3059280" y="476280"/>
            <a:ext cx="3166920" cy="432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Arial"/>
              </a:rPr>
              <a:t>پایان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xit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332000" y="184464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Nazanin"/>
              </a:rPr>
              <a:t>DMA</a:t>
            </a:r>
            <a:r>
              <a:rPr b="1" lang="fa-IR" sz="2400" spc="-1" strike="noStrike">
                <a:solidFill>
                  <a:srgbClr val="0000ff"/>
                </a:solidFill>
                <a:latin typeface="Arial"/>
                <a:ea typeface="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Nazanin"/>
              </a:rPr>
              <a:t>به توانايي زير سيستم 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Nazanin"/>
              </a:rPr>
              <a:t>  براي انتقال اطلاعات به يا از زيرسيستم هاي حاقظه بدون دخالت پردازنده مربوط مي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ff"/>
                </a:solidFill>
                <a:latin typeface="Arial"/>
                <a:cs typeface="Nazanin"/>
              </a:rPr>
              <a:t>كنترلر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Nazani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Nazanin"/>
              </a:rPr>
              <a:t>DM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Nazanin"/>
              </a:rPr>
              <a:t>وسيله اي است كه مي تواند انتقال اطلاعات بين زير سيست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Nazanin"/>
              </a:rPr>
              <a:t> و زير سيستم حافظه را به همان طريق پردازند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Nazanin"/>
              </a:rPr>
              <a:t>,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Nazanin"/>
              </a:rPr>
              <a:t> كنترل كن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435640" y="981000"/>
            <a:ext cx="165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Nazanin"/>
              </a:rPr>
              <a:t> </a:t>
            </a:r>
            <a:r>
              <a:rPr b="1" lang="fa-IR" sz="3200" spc="-1" strike="noStrike">
                <a:solidFill>
                  <a:srgbClr val="ffff00"/>
                </a:solidFill>
                <a:latin typeface="Arial"/>
                <a:cs typeface="Nazanin"/>
              </a:rPr>
              <a:t>تعاريف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Nazani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116000" y="126828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00"/>
                </a:solidFill>
                <a:latin typeface="Arial"/>
                <a:cs typeface="Nazanin"/>
              </a:rPr>
              <a:t>كنترلر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ffff00"/>
                </a:solidFill>
                <a:latin typeface="Arial"/>
                <a:ea typeface="Nazanin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مي تواند در صادر كردن دستورات به حافظه دقيقا" مانند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عمل كند و در واقع يك پردازنده دوم در سيستم است كه به عملكر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اختصاص داده شده است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00"/>
                </a:solidFill>
                <a:latin typeface="Arial"/>
                <a:cs typeface="Nazanin"/>
              </a:rPr>
              <a:t>كنترلر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ffff00"/>
                </a:solidFill>
                <a:latin typeface="Arial"/>
                <a:ea typeface="Nazanin"/>
              </a:rPr>
              <a:t> 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يك يا چند پورت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را مستقيما" به حافظه مرتبط مي ك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504"/>
          <p:cNvPicPr/>
          <p:nvPr/>
        </p:nvPicPr>
        <p:blipFill>
          <a:blip r:embed="rId1"/>
          <a:stretch/>
        </p:blipFill>
        <p:spPr>
          <a:xfrm>
            <a:off x="2268360" y="2852640"/>
            <a:ext cx="4391280" cy="3167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484360" y="47628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Arial"/>
              </a:rPr>
              <a:t>كنترل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MAC)  DMA</a:t>
            </a:r>
            <a:r>
              <a:rPr b="1" lang="fa-IR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765000"/>
            <a:ext cx="8208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پردازنده اطلاعات زير را به </a:t>
            </a:r>
            <a:r>
              <a:rPr b="1" lang="fa-IR" sz="1800" spc="-1" strike="noStrike">
                <a:solidFill>
                  <a:srgbClr val="0000ff"/>
                </a:solidFill>
                <a:latin typeface="Arial"/>
                <a:cs typeface="Nazanin"/>
              </a:rPr>
              <a:t>كنترلر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M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D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منتقل مي ك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    آدرس هاي شروع در حافظ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    طول  بلوك(تعداد كلمه هايي كه بايد انتقال يابد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    مسير انتقال( از حافظه به وسيله يا برعكس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    مشخصات پورت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PORT ID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    پايان عمليات بلوكي ( درخواست وقفه يا عدم درخواست وقفه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زماني كه </a:t>
            </a:r>
            <a:r>
              <a:rPr b="1" lang="fa-IR" sz="1800" spc="-1" strike="noStrike">
                <a:solidFill>
                  <a:srgbClr val="0000ff"/>
                </a:solidFill>
                <a:latin typeface="Arial"/>
                <a:cs typeface="Nazanin"/>
              </a:rPr>
              <a:t>كنترلر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شروع به انتقال اطلاعات مي كند پردازنده به ساير عمليات باز مي گرد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هر زماني كه </a:t>
            </a:r>
            <a:r>
              <a:rPr b="1" lang="fa-IR" sz="1800" spc="-1" strike="noStrike">
                <a:solidFill>
                  <a:srgbClr val="0000ff"/>
                </a:solidFill>
                <a:latin typeface="Arial"/>
                <a:cs typeface="Nazanin"/>
              </a:rPr>
              <a:t>كنترلر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D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به حافظه دسترسي دارد اين درخواست حافظه را با دوره بيكاري                                                                       پردازنده همزمان مي كند.امكانات لازم براي اين كار عبارتند از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توانايي از كار اندازي فوري پردازند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درخواست يك ايست پردازنده و منتظر ماندن براي پيام تأيي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زمان دسترسي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به يك وقفه ساعت يا سيگنال هاي وضعيت پردازنده كه يك چرخه بيكاري را نشان مي ده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4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. وقتي  كه </a:t>
            </a:r>
            <a:r>
              <a:rPr b="1" lang="fa-IR" sz="1800" spc="-1" strike="noStrike">
                <a:solidFill>
                  <a:srgbClr val="0000ff"/>
                </a:solidFill>
                <a:latin typeface="Arial"/>
                <a:cs typeface="Nazanin"/>
              </a:rPr>
              <a:t>كنترلر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به يك پورت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يا حافظه دسترسي مي يابد  از سيگنال هاي كنترلي    عملياتي اي استفاده مي كند كه توسط پردازنده استفاده مي شود . فعاليت پور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مي تواند روي خطوط تخصيص يافته كه نيازي نيست با پردازندهم زمان باشن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,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انجام گيرد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. در صورتيكه وقفه ها در دسترس قرار داشته باشند و يا در ثبات وضعيتي نشان داده شده باشند  </a:t>
            </a:r>
            <a:r>
              <a:rPr b="1" lang="fa-IR" sz="1800" spc="-1" strike="noStrike">
                <a:solidFill>
                  <a:srgbClr val="0000ff"/>
                </a:solidFill>
                <a:latin typeface="Arial"/>
                <a:cs typeface="Nazanin"/>
              </a:rPr>
              <a:t>كنترلر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 در تكميل انتقال بلوك درخواست وقفه را ادامه مي دهد 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. پردازنده تكميل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را تشخيص مي دهد (يا با وقفه يا با خواندن ثبات وضعيتي)پس از فعاليت بين پردازنده و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DMAC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يك فعاليت پس تكميل نرمال هريك ازپورت هاي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را دنبال مي ك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332000" y="1890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Arial"/>
                <a:cs typeface="Nazanin"/>
              </a:rPr>
              <a:t>رفتار عملياتي گردش كار يك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Nazanin"/>
              </a:rPr>
              <a:t>D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484360" y="47628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Arial"/>
                <a:cs typeface="Nazanin"/>
              </a:rPr>
              <a:t>عمليات واسط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Nazanin"/>
              </a:rPr>
              <a:t>DM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Nazani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017"/>
          <p:cNvPicPr/>
          <p:nvPr/>
        </p:nvPicPr>
        <p:blipFill>
          <a:blip r:embed="rId1"/>
          <a:stretch/>
        </p:blipFill>
        <p:spPr>
          <a:xfrm>
            <a:off x="2050920" y="2359080"/>
            <a:ext cx="4897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remove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hsl" dir="cw">
                                      <p:cBhvr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932360" y="1700280"/>
            <a:ext cx="29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كنترلر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سه كانال مستقل دارد كه هر كانال يك ثبات آدرس يك ثبات كنترلي و يك شمارندة بايتي دار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براي انتقال هر بلوك از اطلاعات بين يك دستگاه خروجي يا پورت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و حافظه كنترلر مقادير اوليه را در ثبات هاي كنترل آدرس و شمارندة بايتي ذخيره مي ك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سپس كانال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D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,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بلوك اطلاعات را براساس مسير عبوري كه در ثبات كنترلي رمزگشايي شده است به حافظه انتقال مي ده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507"/>
          <p:cNvPicPr/>
          <p:nvPr/>
        </p:nvPicPr>
        <p:blipFill>
          <a:blip r:embed="rId1"/>
          <a:stretch/>
        </p:blipFill>
        <p:spPr>
          <a:xfrm>
            <a:off x="1116000" y="1700280"/>
            <a:ext cx="3619440" cy="3529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843280" y="549360"/>
            <a:ext cx="33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Arial"/>
                <a:cs typeface="Nazanin"/>
              </a:rPr>
              <a:t>عمليات كنترل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Nazanin"/>
              </a:rPr>
              <a:t>DM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Nazani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16000" y="1341360"/>
            <a:ext cx="6624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                        </a:t>
            </a:r>
            <a:r>
              <a:rPr b="1" lang="fa-IR" sz="3200" spc="-1" strike="noStrike">
                <a:solidFill>
                  <a:srgbClr val="ffff00"/>
                </a:solidFill>
                <a:latin typeface="Arial"/>
                <a:cs typeface="Nazanin"/>
              </a:rPr>
              <a:t>واسطة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Nazanin"/>
              </a:rPr>
              <a:t>DMA</a:t>
            </a:r>
            <a:r>
              <a:rPr b="1" lang="fa-IR" sz="3200" spc="-1" strike="noStrike">
                <a:solidFill>
                  <a:srgbClr val="ffff00"/>
                </a:solidFill>
                <a:latin typeface="Arial"/>
                <a:ea typeface="Nazanin"/>
              </a:rPr>
              <a:t> با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Nazanin"/>
              </a:rPr>
              <a:t>I/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ارتباط با پور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نياز به دو سيگنال براي پورت:درخواست انتقال 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TRANSFER ACK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به اضافة توانايي توليد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L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 READ /WRITE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دارد تا مسير انتقال را براي پورت مشخص سازد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-569880" y="1412640"/>
            <a:ext cx="104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.كنترلر به طور همزمان كارهاي زير را انجام مي دهد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يك آدرس را در باس قرار ميده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براي درخواست پور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TRANSFER ACK,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را ارسال ميك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جهت مناسبي ا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READ/WRITE L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را به حافظه وسيگنال كامل آن را به سيست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مي فرست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87280" y="328464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سه كانال وجود دارد تا انجام عمليات فوق را به صورت چند بخشي در ميان پورت هاي سه گان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عملي ساز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كنترلر مي تواند ريز پردازنده را در انتهاي انتقال هر بلوك داده متوقف كند . با پاسخ به وقف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,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پردازشگر مجددا"ثبات ها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را براي بلوك انتقالي جديدي بار گذاري مي كند و از اين رهگذرادامه جريان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/O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را حفظ ميك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60" y="47628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Arial"/>
                <a:cs typeface="Nazanin"/>
              </a:rPr>
              <a:t>دستيابي به حافظه توسط كنترلر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00000" y="189000"/>
            <a:ext cx="705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Arial"/>
                <a:ea typeface="Nazanin"/>
              </a:rPr>
              <a:t>                      كنترل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Nazanin"/>
              </a:rPr>
              <a:t>i8527 D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كنترل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I8527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چهار كانال متفاوت داردكه هركدام يك ثبات آدرس و يك شمارنده دار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484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چيپ چهار سيگنال هماهنگ شده با عمليات "خواندن"  و "نوشتن"دارد .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Nazanin"/>
              </a:rPr>
              <a:t>MEMREAD L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و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Nazanin"/>
              </a:rPr>
              <a:t>MEMWRITE  L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سيگنال هايي هستند كه توسط كنترلر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براي بهره گيري از حافظه توليد مي شوند. دو سيگنال</a:t>
            </a:r>
            <a:r>
              <a:rPr b="1" lang="fa-IR" sz="1800" spc="-1" strike="noStrike">
                <a:solidFill>
                  <a:srgbClr val="ffff00"/>
                </a:solidFill>
                <a:latin typeface="Arial"/>
                <a:ea typeface="Nazani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Nazanin"/>
              </a:rPr>
              <a:t>I/O READ L</a:t>
            </a:r>
            <a:r>
              <a:rPr b="1" lang="fa-IR" sz="1800" spc="-1" strike="noStrike">
                <a:solidFill>
                  <a:srgbClr val="ffff00"/>
                </a:solidFill>
                <a:latin typeface="Arial"/>
                <a:ea typeface="Nazanin"/>
              </a:rPr>
              <a:t> و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Nazanin"/>
              </a:rPr>
              <a:t>I/O WRITE L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دو مسيره هستند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508"/>
          <p:cNvPicPr/>
          <p:nvPr/>
        </p:nvPicPr>
        <p:blipFill>
          <a:blip r:embed="rId1"/>
          <a:stretch/>
        </p:blipFill>
        <p:spPr>
          <a:xfrm>
            <a:off x="2556000" y="2492280"/>
            <a:ext cx="3762360" cy="2562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684360" y="488304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ff"/>
                </a:solidFill>
                <a:latin typeface="Arial"/>
                <a:ea typeface="Nazanin"/>
              </a:rPr>
              <a:t> سيگنال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TC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(شمارة پاياني)در طول آخرين چرخةبلو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DM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  اعلام ميشود تا پايان انتقال را مشخص كند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2411280" y="4941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2340000" y="1628640"/>
            <a:ext cx="107964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>
            <a:off x="3419280" y="1916280"/>
            <a:ext cx="3816360" cy="23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3347640" y="2276640"/>
            <a:ext cx="576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3492000" y="2276640"/>
            <a:ext cx="1800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284720" y="508464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Nazanin"/>
              </a:rPr>
              <a:t>MA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هنگامي كه شماره بر روي يك كانال كه از مضارب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128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ميشود توق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مي كن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,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وارد مي شود تا يك سيگنال زمان بندي مناسب براي وسيلة خارجي آماده ك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 flipV="1">
            <a:off x="3276360" y="4723920"/>
            <a:ext cx="36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468360" y="24922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8257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 با اعمال وقفه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HRQ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)  كنترل را از باس مي گيرد</a:t>
            </a:r>
            <a:r>
              <a:rPr b="1" lang="fa-I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2195640" y="299736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6156360" y="4076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Nazanin"/>
              </a:rPr>
              <a:t>سيگنال" پيشروي" پذيرش وقفه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Nazanin"/>
              </a:rPr>
              <a:t>HLD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Nazanin"/>
              </a:rPr>
              <a:t>)را دريافت مي كند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>
            <a:off x="3347640" y="45086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1:37:02Z</dcterms:created>
  <dc:creator>Your User Name</dc:creator>
  <dc:description/>
  <dc:language>en-US</dc:language>
  <cp:lastModifiedBy>ROYA</cp:lastModifiedBy>
  <dcterms:modified xsi:type="dcterms:W3CDTF">2011-08-04T21:02:54Z</dcterms:modified>
  <cp:revision>17</cp:revision>
  <dc:subject/>
  <dc:title>Slide 1</dc:title>
</cp:coreProperties>
</file>