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43.xml.rels" ContentType="application/vnd.openxmlformats-package.relationships+xml"/>
  <Override PartName="/ppt/slides/_rels/slide19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2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136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37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32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2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67.xml.rels" ContentType="application/vnd.openxmlformats-package.relationships+xml"/>
  <Override PartName="/ppt/slides/_rels/slide17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172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47.xml.rels" ContentType="application/vnd.openxmlformats-package.relationships+xml"/>
  <Override PartName="/ppt/slides/_rels/slide191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55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9.xml.rels" ContentType="application/vnd.openxmlformats-package.relationships+xml"/>
  <Override PartName="/ppt/slides/_rels/slide85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149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2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11.xml" ContentType="application/vnd.openxmlformats-officedocument.presentationml.slide+xml"/>
  <Override PartName="/ppt/slides/slide212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202.xml" ContentType="application/vnd.openxmlformats-officedocument.presentationml.slide+xml"/>
  <Override PartName="/ppt/slides/slide239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234.xml" ContentType="application/vnd.openxmlformats-officedocument.presentationml.slide+xml"/>
  <Override PartName="/ppt/slides/slide246.xml" ContentType="application/vnd.openxmlformats-officedocument.presentationml.slide+xml"/>
  <Override PartName="/ppt/slides/slide53.xml" ContentType="application/vnd.openxmlformats-officedocument.presentationml.slide+xml"/>
  <Override PartName="/ppt/slides/slide235.xml" ContentType="application/vnd.openxmlformats-officedocument.presentationml.slide+xml"/>
  <Override PartName="/ppt/slides/slide42.xml" ContentType="application/vnd.openxmlformats-officedocument.presentationml.slide+xml"/>
  <Override PartName="/ppt/slides/slide210.xml" ContentType="application/vnd.openxmlformats-officedocument.presentationml.slide+xml"/>
  <Override PartName="/ppt/slides/slide247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1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9C4F0-58EB-43FA-BC2C-DA297C1B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56279-9AFD-4246-8B9D-5320DAA4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1E09F-D5E6-4394-8C70-CB2927EF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8C5ED-862C-4892-B9D8-6CA81324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DB715-F6A2-4068-BFF8-4555781C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446CD-6399-4797-B91D-AF73558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AEA1F-83C0-402D-80B9-5E2376C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D2DE3-A833-4239-8C4A-7DF5D89E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36BBA-F416-4BE7-9333-DF04E706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7F94-B5AB-437E-9947-08CB370E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51CD1-14A5-4E3B-9D8B-8FA3DFA4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06B57-88A2-4923-B291-D59D25C3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253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4000" y="0"/>
            <a:ext cx="925200" cy="915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11280" y="6211800"/>
            <a:ext cx="6192720" cy="544680"/>
          </a:xfrm>
          <a:prstGeom prst="rect">
            <a:avLst/>
          </a:prstGeom>
          <a:gradFill rotWithShape="0">
            <a:gsLst>
              <a:gs pos="0">
                <a:srgbClr val="e1e0c2"/>
              </a:gs>
              <a:gs pos="100000">
                <a:srgbClr val="959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4360" y="984240"/>
            <a:ext cx="8002440" cy="0"/>
          </a:xfrm>
          <a:prstGeom prst="line">
            <a:avLst/>
          </a:prstGeom>
          <a:ln w="1908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6127920"/>
            <a:ext cx="8002440" cy="0"/>
          </a:xfrm>
          <a:prstGeom prst="line">
            <a:avLst/>
          </a:prstGeom>
          <a:ln w="1908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87640" y="957240"/>
            <a:ext cx="5699160" cy="6984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50000">
                <a:srgbClr val="cccc99"/>
              </a:gs>
              <a:gs pos="100000">
                <a:srgbClr val="5e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3240" y="0"/>
            <a:ext cx="327240" cy="685800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50000">
                <a:srgbClr val="e1e0c2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820000" y="0"/>
            <a:ext cx="327240" cy="685800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50000">
                <a:srgbClr val="e1e0c2"/>
              </a:gs>
              <a:gs pos="100000">
                <a:srgbClr val="9593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89040" y="6089760"/>
            <a:ext cx="5699160" cy="6984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50000">
                <a:srgbClr val="cccc99"/>
              </a:gs>
              <a:gs pos="100000">
                <a:srgbClr val="5e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124000" y="6308640"/>
            <a:ext cx="2519280" cy="398520"/>
          </a:xfrm>
          <a:prstGeom prst="foldedCorner">
            <a:avLst>
              <a:gd name="adj" fmla="val 18291"/>
            </a:avLst>
          </a:prstGeom>
          <a:gradFill rotWithShape="0">
            <a:gsLst>
              <a:gs pos="0">
                <a:srgbClr val="ffffe1"/>
              </a:gs>
              <a:gs pos="100000">
                <a:srgbClr val="cccc99"/>
              </a:gs>
            </a:gsLst>
            <a:lin ang="5400000"/>
          </a:gradFill>
          <a:ln w="936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525128"/>
                </a:solidFill>
                <a:latin typeface="Arial"/>
                <a:cs typeface="Roya"/>
              </a:rPr>
              <a:t>اصول طراحي کامپايل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84360" y="6308640"/>
            <a:ext cx="1295280" cy="398520"/>
          </a:xfrm>
          <a:prstGeom prst="foldedCorner">
            <a:avLst>
              <a:gd name="adj" fmla="val 18291"/>
            </a:avLst>
          </a:prstGeom>
          <a:gradFill rotWithShape="0">
            <a:gsLst>
              <a:gs pos="0">
                <a:srgbClr val="ffffe1"/>
              </a:gs>
              <a:gs pos="100000">
                <a:srgbClr val="cccc99"/>
              </a:gs>
            </a:gsLst>
            <a:lin ang="5400000"/>
          </a:gradFill>
          <a:ln w="936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525128"/>
                </a:solidFill>
                <a:latin typeface="Arial"/>
                <a:cs typeface="Roya"/>
              </a:rPr>
              <a:t>صفحه: </a:t>
            </a:r>
            <a:fld id="{69A42E97-A2AE-4699-A9F7-52FED4715C9C}" type="slidenum">
              <a:rPr b="1" lang="en-US" sz="2000" spc="-1" strike="noStrike">
                <a:solidFill>
                  <a:srgbClr val="525128"/>
                </a:solidFill>
                <a:latin typeface="Arial"/>
                <a:ea typeface="Roy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788000" y="6308640"/>
            <a:ext cx="1944720" cy="398520"/>
          </a:xfrm>
          <a:prstGeom prst="foldedCorner">
            <a:avLst>
              <a:gd name="adj" fmla="val 18291"/>
            </a:avLst>
          </a:prstGeom>
          <a:gradFill rotWithShape="0">
            <a:gsLst>
              <a:gs pos="0">
                <a:srgbClr val="ffffe1"/>
              </a:gs>
              <a:gs pos="100000">
                <a:srgbClr val="cccc99"/>
              </a:gs>
            </a:gsLst>
            <a:lin ang="5400000"/>
          </a:gradFill>
          <a:ln w="9360">
            <a:solidFill>
              <a:srgbClr val="918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525128"/>
                </a:solidFill>
                <a:latin typeface="Arial"/>
                <a:cs typeface="Roya"/>
              </a:rPr>
              <a:t>گروه کامپيو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4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0033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8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525252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3492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61AB-4D41-4E82-BB48-B630F3CCE54E}" type="slidenum"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6000" y="1699920"/>
            <a:ext cx="61243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525128"/>
                </a:solidFill>
                <a:latin typeface="Times New Roman"/>
              </a:rPr>
              <a:t>اصول طراحي کامپايلر</a:t>
            </a:r>
            <a:endParaRPr b="1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50000">
                <a:srgbClr val="ffffe1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هيه کننده: سيده فاطمه نوران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گروه: کامپيوت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260280"/>
            <a:ext cx="928440" cy="919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08000" y="1268280"/>
            <a:ext cx="1504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f3f3f"/>
                </a:solidFill>
                <a:latin typeface="Roya"/>
              </a:rPr>
              <a:t>دانشگاه پيام نور</a:t>
            </a:r>
            <a:endParaRPr b="1" lang="en-US" sz="2400" spc="1" strike="noStrike">
              <a:ln w="0">
                <a:noFill/>
              </a:ln>
              <a:solidFill>
                <a:srgbClr val="3f3f3f"/>
              </a:solidFill>
              <a:latin typeface="Roya"/>
              <a:ea typeface="Roy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5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پيش پردازشگ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38836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525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مع آوري ماژولهاي برنامه مبدا موجود در فايلهاي جداگان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525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 ت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ديل بخشهاي خلاصه شده بنام درشت دستورات به احكا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زبان مبد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يك الگو براي تحليل 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02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لگوي تشخيص ساختار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IF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با كمك ماشين قطع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755640" y="2349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رقم يا حر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=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348000" y="378936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556000" y="378936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140360" y="3789360"/>
            <a:ext cx="5396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940360" y="3789360"/>
            <a:ext cx="5414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804000" y="3789360"/>
            <a:ext cx="541440" cy="50472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003640" y="3789360"/>
            <a:ext cx="5414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4678200" y="407628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6515280" y="4078440"/>
            <a:ext cx="288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580000" y="407844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851280" y="40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692360" y="378936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26692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05928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227640" y="429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پذيرش نه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16000" y="40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21160" y="36925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شرو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268360" y="36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060720" y="35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572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0872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796000" y="350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003640" y="3284640"/>
            <a:ext cx="503280" cy="514080"/>
          </a:xfrm>
          <a:custGeom>
            <a:avLst/>
            <a:gdLst/>
            <a:ahLst/>
            <a:rect l="l" t="t" r="r" b="b"/>
            <a:pathLst>
              <a:path w="227" h="460">
                <a:moveTo>
                  <a:pt x="227" y="415"/>
                </a:moveTo>
                <a:cubicBezTo>
                  <a:pt x="223" y="207"/>
                  <a:pt x="220" y="0"/>
                  <a:pt x="182" y="7"/>
                </a:cubicBezTo>
                <a:cubicBezTo>
                  <a:pt x="144" y="14"/>
                  <a:pt x="8" y="400"/>
                  <a:pt x="0" y="4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0872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075280" y="299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فصل چهارم: تحليل نحو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11280" y="1341360"/>
            <a:ext cx="79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اهداف رفتار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Roya"/>
              </a:rPr>
              <a:t>دانشجو پس  از مطالعه اين فصل با مفاهيم زير آشنا خواهد ش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حليل گر نحوی و خطاهای نحو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گرامر و گرامر مستقل از م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جزيه بالا به پايين و پايين به بال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جزيه پيشگ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گرامرها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LL(1)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SLR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LALR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فوايد گرامر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84360" y="170028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مايش دقيق و قابل فهمي براي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84360" y="242100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مكان ايجاد پارسرهاي كارآمد با قابليت تشخيص ساختارهاي نحوي درست و دق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84360" y="3429000"/>
            <a:ext cx="755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يجاد ساختاري مناسب براي زبان جهت ترجمه صحيح و آشكارسازي خطا توسط گرامر  درست طراحي ش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4360" y="450864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سادگي اضافه نمودن ساختارهاي جديد به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258920" y="1268280"/>
            <a:ext cx="7129440" cy="388944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50000">
                <a:srgbClr val="cccc99"/>
              </a:gs>
              <a:gs pos="100000">
                <a:srgbClr val="ffffe1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21000" y="1484280"/>
            <a:ext cx="6705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يافت رشته اي از نشانه ها از تحليل گر لغوي و بررسي تعلق رشته به زبان توسط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521000" y="2781360"/>
            <a:ext cx="6705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جام بررسي طبق ساختارهاي نحوي زبان و هر مرحله گزارش خطاهاي نحوي به اداره كننده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521000" y="4149720"/>
            <a:ext cx="6705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فع خطا براي پردازش ادامه ورودي بر اساس خطاهاي متدا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258920" y="2492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258920" y="378936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- ارتباطا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195640" y="5373720"/>
            <a:ext cx="36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0033"/>
                </a:solidFill>
                <a:latin typeface="Times New Roman"/>
                <a:cs typeface="Roya"/>
              </a:rPr>
              <a:t>موقعيت تجزيه كننده در مدل كامپايل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403280" y="1700280"/>
            <a:ext cx="136836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525128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780000" y="4292640"/>
            <a:ext cx="136836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525128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635280" y="1700280"/>
            <a:ext cx="136836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525128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(پارس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227640" y="1700280"/>
            <a:ext cx="136872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525128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اقيما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لوبندي كامپايل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1280" y="220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221440" y="220500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844720" y="220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284472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667640" y="220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5219280" y="2852640"/>
            <a:ext cx="151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195640" y="2852640"/>
            <a:ext cx="151272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16000" y="1700280"/>
            <a:ext cx="122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نام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مبد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308720" y="1773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كد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يا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788000" y="1700280"/>
            <a:ext cx="143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درخت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908000" y="1700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484360" y="2637000"/>
            <a:ext cx="14400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درخو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0000" y="2781360"/>
            <a:ext cx="5902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لغوي. مانند ديكته غلط شناسه ، كلمه كليدي يا عمل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حوي. مانند عبارت محاسباتي با پرانتزهاي نامتعاد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11280" y="4005360"/>
            <a:ext cx="61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معنايي. مانند استفاده از عملگر با عملوندهاي ناسازگ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منطقي. مانند فراخواني بازگشتي بي نها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227640" y="1700280"/>
            <a:ext cx="216072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لف سطوح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948360" y="2708280"/>
            <a:ext cx="216000" cy="2305080"/>
          </a:xfrm>
          <a:custGeom>
            <a:avLst/>
            <a:gdLst>
              <a:gd name="textAreaLeft" fmla="*/ 0 w 216000"/>
              <a:gd name="textAreaRight" fmla="*/ 7812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59349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5003640" y="1268280"/>
            <a:ext cx="3621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27640" y="1557360"/>
            <a:ext cx="396072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ب- ويژگي اداره كننده خطاي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4920" y="3141720"/>
            <a:ext cx="80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وانايي گزارش حضور خطاها را با وضوح و با دق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پوشش هر خطا با سرعت كافي به جهت امكان آشكارسازي خطاهاي ب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دم كاهش بيش از حد سرعت پردازش برنامه هاي صحي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8172360" y="3068640"/>
            <a:ext cx="216000" cy="1800360"/>
          </a:xfrm>
          <a:custGeom>
            <a:avLst/>
            <a:gdLst>
              <a:gd name="textAreaLeft" fmla="*/ 0 w 216000"/>
              <a:gd name="textAreaRight" fmla="*/ 78120 w 216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959349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11640" y="1557360"/>
            <a:ext cx="396072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ج- استراتژي هاي پوشش خطاي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411280" y="2852640"/>
            <a:ext cx="403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ic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ras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8000" y="2637000"/>
            <a:ext cx="216000" cy="244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59349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900000" y="260280"/>
            <a:ext cx="7772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خطاي نحوي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  <a:ea typeface="Roya"/>
              </a:rPr>
              <a:t>Panic mode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796000" y="3645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 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076720" y="148428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ويژگ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484360" y="2133720"/>
            <a:ext cx="4249800" cy="143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ده ترين روش پوش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بل استفاده اكثر روشهاي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ارد حلقه بي نهايت نمي شو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26920" y="4797360"/>
            <a:ext cx="734544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Roya"/>
              </a:rPr>
              <a:t>صرف نظر از يك نماد در هر مرحله  تا زمان پيداشدن نشانه هماهنگ با زب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755640" y="333360"/>
            <a:ext cx="78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Arial"/>
                <a:ea typeface="Roya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Arial"/>
                <a:ea typeface="Roya"/>
              </a:rPr>
              <a:t> خطاي نحوي </a:t>
            </a:r>
            <a:r>
              <a:rPr b="1" lang="en-US" sz="3200" spc="-1" strike="noStrike">
                <a:solidFill>
                  <a:srgbClr val="330033"/>
                </a:solidFill>
                <a:latin typeface="Arial"/>
                <a:ea typeface="Roya"/>
              </a:rPr>
              <a:t>Phrase Level</a:t>
            </a:r>
            <a:r>
              <a:rPr b="1" lang="en-US" sz="3600" spc="-1" strike="noStrike">
                <a:solidFill>
                  <a:srgbClr val="330033"/>
                </a:solidFill>
                <a:latin typeface="Arial"/>
                <a:ea typeface="Roy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148360" y="1628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ويژگ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724360" y="4005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 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692360" y="1844640"/>
            <a:ext cx="5111640" cy="194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96720" y="1917720"/>
            <a:ext cx="6337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ستفاده از تصحيح موضع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عدم ورود به حلقه بي نهايت با دقت در انتخاب جايگزين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ضعف در برخورد با خطاهاي اصلي قبل از نقطه تشخي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قادر به تصحيح هر رشته 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55640" y="4869000"/>
            <a:ext cx="763272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826920" y="4941720"/>
            <a:ext cx="7525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يشوندي از باقيمانده ورودي را جايگزين رشته اي مي نمايد كه امكان ادامه تجزيه 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5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رتباطات در سيستم پردازش زبا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1341360"/>
            <a:ext cx="2736720" cy="576360"/>
          </a:xfrm>
          <a:prstGeom prst="rect">
            <a:avLst/>
          </a:prstGeom>
          <a:solidFill>
            <a:srgbClr val="959349"/>
          </a:solidFill>
          <a:ln w="9360">
            <a:solidFill>
              <a:srgbClr val="cccc99"/>
            </a:solidFill>
            <a:miter/>
          </a:ln>
          <a:effectLst>
            <a:outerShdw dist="107932" dir="13500000" blurRad="0" rotWithShape="0">
              <a:srgbClr val="95934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يش پردازش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724280"/>
            <a:ext cx="2736720" cy="576360"/>
          </a:xfrm>
          <a:prstGeom prst="rect">
            <a:avLst/>
          </a:prstGeom>
          <a:solidFill>
            <a:srgbClr val="959349"/>
          </a:solidFill>
          <a:ln w="9360">
            <a:solidFill>
              <a:srgbClr val="cccc99"/>
            </a:solidFill>
            <a:miter/>
          </a:ln>
          <a:effectLst>
            <a:outerShdw dist="107932" dir="13500000" blurRad="0" rotWithShape="0">
              <a:srgbClr val="95934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ركننده / ويرايشگر الح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492280"/>
            <a:ext cx="2736720" cy="576360"/>
          </a:xfrm>
          <a:prstGeom prst="rect">
            <a:avLst/>
          </a:prstGeom>
          <a:solidFill>
            <a:srgbClr val="959349"/>
          </a:solidFill>
          <a:ln w="9360">
            <a:solidFill>
              <a:srgbClr val="cccc99"/>
            </a:solidFill>
            <a:miter/>
          </a:ln>
          <a:effectLst>
            <a:outerShdw dist="107932" dir="13500000" blurRad="0" rotWithShape="0">
              <a:srgbClr val="95934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امپايل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3645000"/>
            <a:ext cx="2736720" cy="576000"/>
          </a:xfrm>
          <a:prstGeom prst="rect">
            <a:avLst/>
          </a:prstGeom>
          <a:solidFill>
            <a:srgbClr val="959349"/>
          </a:solidFill>
          <a:ln w="9360">
            <a:solidFill>
              <a:srgbClr val="cccc99"/>
            </a:solidFill>
            <a:miter/>
          </a:ln>
          <a:effectLst>
            <a:outerShdw dist="107932" dir="13500000" blurRad="0" rotWithShape="0">
              <a:srgbClr val="95934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مبل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19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0560" y="53244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11253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كلت برنامه مبد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نامه مبد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068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نامه اسمبلي مقص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94760" y="42210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د ماشين جابجاپذ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1320" y="5516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د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4653000"/>
            <a:ext cx="183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تابخانه  فايل هاي مقصد جابجاپذ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363640" y="51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Error production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580000" y="20606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 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909800" y="3141720"/>
            <a:ext cx="568944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6360" y="3284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ضافه نمودن ساختارهاي مولد خطا به زبان از قبل  تشخيص آنها در زمان تجزيه در رشته 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نحوي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Global Correction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580000" y="177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 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39640" y="2492280"/>
            <a:ext cx="792000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خاب الگوريتم هاي تصحيح خطا با قابليت ايجاد كمترين تغييرات در ورودي براي رفع خط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050920" y="4221000"/>
            <a:ext cx="511344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خ دادن حداقل تعداد درج ها، حذفها در رشته 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مستقل از مت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916360" y="2205000"/>
            <a:ext cx="3095640" cy="1079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 ( V 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, P , S)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جزاي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H="1" flipV="1">
            <a:off x="2843280" y="162828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492360" y="2924280"/>
            <a:ext cx="2858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284720" y="1844280"/>
            <a:ext cx="143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500720" y="2924280"/>
            <a:ext cx="431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292720" y="1268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وانين : اعضاي مجموع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V * ( V  U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95280" y="11970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متغيرها يا غير پايان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80000" y="350028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نصر شروع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476360" y="35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ناصر پاي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588000" y="4221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يژگي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6227280" y="458136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303640" y="5013360"/>
            <a:ext cx="5076720" cy="936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اگر و تنها اگر  </a:t>
            </a:r>
            <a:r>
              <a:rPr b="1" lang="fa-I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  <a:ea typeface="Roya"/>
              </a:rPr>
              <a:t>L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(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( A </a:t>
            </a:r>
            <a:r>
              <a:rPr b="1" lang="fa-I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u </a:t>
            </a:r>
            <a:r>
              <a:rPr b="1" lang="fa-I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 V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4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مستقل از متن - تعاريف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77080" y="2060640"/>
            <a:ext cx="151128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فرم جمله ا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77080" y="3141720"/>
            <a:ext cx="151128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م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877080" y="4292640"/>
            <a:ext cx="151128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زب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615600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6156000" y="450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615600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826920" y="1628640"/>
            <a:ext cx="5113440" cy="1006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فرم جمله ايست اگر يك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(V U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)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جود داشته باش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شتقاق از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826920" y="2852640"/>
            <a:ext cx="511344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جمله است اگر يك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</a:t>
            </a:r>
            <a:r>
              <a:rPr b="1" lang="en-US" sz="2400" spc="-1" strike="noStrike" baseline="1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جود داشته باش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شتقاق از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826920" y="4005360"/>
            <a:ext cx="511344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 مي دهند، مجموع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(G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ه ب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زبان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}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س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گرامر مستقل از متن 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نمونه اشتقاقهاي يك رشته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26920" y="1341360"/>
            <a:ext cx="2808360" cy="1008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AAA \ bA\ Ab\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443640" y="1628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abaa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826920" y="299736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484360" y="2997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356000" y="2997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516720" y="2997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11280" y="3141720"/>
            <a:ext cx="187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531880" y="3141720"/>
            <a:ext cx="1892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َََ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627440" y="3112920"/>
            <a:ext cx="188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659640" y="3112920"/>
            <a:ext cx="201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ab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گرامرهاي مستقل از مت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26920" y="2133720"/>
            <a:ext cx="223380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Sb \ aSb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419640" y="2133720"/>
            <a:ext cx="223344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Sdd \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bAc \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050920" y="4005360"/>
            <a:ext cx="223380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S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bB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643280" y="3933720"/>
            <a:ext cx="2233800" cy="1150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bSc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bB \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2000" y="2133720"/>
            <a:ext cx="223344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Sa \ 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bB 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4-5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عبارات باقاعده- دلايل استفاده براي نحو زبان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36360" y="1844640"/>
            <a:ext cx="849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نياز به نمايش نوع قوي مانند گرامر براي توصيف قوانين ساده لغو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بان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95280" y="2924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مكان نمايش مختصرتر و قابل فهم تري براي نشانه ها نسبت به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403280" y="37893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يجاد تحليل گرهاي لغوي كاراتر به صورت خودكار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68360" y="4508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اه مناسبي براي پيمانه سازي جلوبندي كامپايلر به دو بخش قابل مديريت با تقسيم ساختار زبان به لغوي و غير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4-6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جزيه- نوع بالا به پايين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116000" y="1341360"/>
            <a:ext cx="7128000" cy="1440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سعي در يافتن سمت چپ ترين اشتقاق براي رشته ورودي د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سعي در ساختن درخت تجزيه براي رشته ورودي با شروع از ريش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و ايجاد گره هاي درخت بصورت پيش ترت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148360" y="4292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واع پارسرهاي بالا به پاي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900000" y="386064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L (1)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گرامرهاي بدون عقبگر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258920" y="4869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گرامرهاي با عقبگ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H="1" flipV="1">
            <a:off x="4932000" y="407664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4858920" y="4653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3315600" y="3477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Arial"/>
                <a:ea typeface="Roya"/>
              </a:rPr>
              <a:t>4-6 </a:t>
            </a:r>
            <a:r>
              <a:rPr b="1" lang="fa-IR" sz="3600" spc="-1" strike="noStrike">
                <a:solidFill>
                  <a:srgbClr val="330033"/>
                </a:solidFill>
                <a:latin typeface="Arial"/>
                <a:cs typeface="Roya"/>
              </a:rPr>
              <a:t>تجزيه- نوع بالا به پا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067280" y="1557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 بازگشت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Roya"/>
              </a:rPr>
              <a:t>–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كاهشي  ( پيشگ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332000" y="2421000"/>
            <a:ext cx="67690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هيه مجموعه اي از پايانه هايي كه در هر قانون براي يك غير پايانه  د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مت راست ظاهر مي شون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332000" y="3789360"/>
            <a:ext cx="6696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رسي دنباله رشته ورودي بر طبق مجموعه بال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619280" y="501336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332000" y="4941720"/>
            <a:ext cx="6696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رسي بالا با مقايسه نماد پيش نگر در ورودي با عناصر مجموعه بال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572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6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پيشگو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ياده ساز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32000" y="1268280"/>
            <a:ext cx="2735280" cy="648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يجاد نمودار انتق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763640" y="2276640"/>
            <a:ext cx="5545080" cy="57600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حذف بازگشتي چپ در گرامر در صورت وج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763640" y="3213000"/>
            <a:ext cx="5545080" cy="57636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يجاد حال شروع و حالت نهايي براي گرا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5640" y="4149720"/>
            <a:ext cx="7704000" cy="57636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1, X2,…,Xn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سم يك مسير از حالت شروع به نهايي براي هر قانون به شك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5084640"/>
            <a:ext cx="7417080" cy="57492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1,X2,…,Xn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ادن برچسب به لبه ها يا يالهاي مسير به صور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57200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57200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5720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ه فاز تحليل در عمل کامپاي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11280" y="1413000"/>
          <a:ext cx="8064360" cy="3754440"/>
        </p:xfrm>
        <a:graphic>
          <a:graphicData uri="http://schemas.openxmlformats.org/drawingml/2006/table">
            <a:tbl>
              <a:tblPr/>
              <a:tblGrid>
                <a:gridCol w="3744720"/>
                <a:gridCol w="4319640"/>
              </a:tblGrid>
              <a:tr h="155700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Roya"/>
                        </a:rPr>
                        <a:t>تشخيص نشانه 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52512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52512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d06800"/>
                          </a:solidFill>
                          <a:latin typeface="Arial"/>
                          <a:ea typeface="Roya"/>
                        </a:rPr>
                        <a:t>  تحليل خطي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ea typeface="Roya"/>
                        </a:rPr>
                        <a:t>(تحليل لغوي يا پوي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25128"/>
                      </a:solidFill>
                    </a:lnR>
                    <a:lnT w="13680">
                      <a:solidFill>
                        <a:srgbClr val="52512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18003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Roya"/>
                        </a:rPr>
                        <a:t>گروه بندي نشانه هاي برنامه مبدا به جملات گرامر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52512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d06800"/>
                          </a:solidFill>
                          <a:latin typeface="Arial"/>
                          <a:ea typeface="Roya"/>
                        </a:rPr>
                        <a:t> تحليل سلسله مراتبي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ea typeface="Roya"/>
                        </a:rPr>
                        <a:t>(تحليل نحوي يا تجزيه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2512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94716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Roya"/>
                        </a:rPr>
                        <a:t>بررسي خطاهاي معنايي برنام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52512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525128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 rtl="1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d06800"/>
                          </a:solidFill>
                          <a:latin typeface="Arial"/>
                          <a:ea typeface="Roya"/>
                        </a:rPr>
                        <a:t> تحليل معنايي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52512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525128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تجزيه كننده پيشگو- نمودار انتقال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6920" y="1341360"/>
            <a:ext cx="180036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492360" y="213372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788000" y="213372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6012000" y="2133720"/>
            <a:ext cx="504720" cy="50328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87640" y="350028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211640" y="350028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364000" y="350028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16720" y="3500280"/>
            <a:ext cx="504720" cy="50328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492360" y="501336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89440" y="501336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084720" y="5013360"/>
            <a:ext cx="505080" cy="50328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99564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364000" y="2421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16360" y="37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4036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068720" y="53020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437080" y="53020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451640" y="2060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451640" y="3573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597800" y="5157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91636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997440" y="49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348000" y="342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292720" y="20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149800" y="494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26836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06728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500720" y="3429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2436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484360" y="508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419640" y="4005360"/>
            <a:ext cx="3313080" cy="660240"/>
          </a:xfrm>
          <a:custGeom>
            <a:avLst/>
            <a:gdLst/>
            <a:ahLst/>
            <a:rect l="l" t="t" r="r" b="b"/>
            <a:pathLst>
              <a:path w="2177" h="507">
                <a:moveTo>
                  <a:pt x="0" y="46"/>
                </a:moveTo>
                <a:cubicBezTo>
                  <a:pt x="499" y="276"/>
                  <a:pt x="998" y="507"/>
                  <a:pt x="1361" y="499"/>
                </a:cubicBezTo>
                <a:cubicBezTo>
                  <a:pt x="1724" y="491"/>
                  <a:pt x="2116" y="8"/>
                  <a:pt x="217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كننده پيشگو- نمودار انتقا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978200" y="2276640"/>
            <a:ext cx="504720" cy="50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3201840" y="2276640"/>
            <a:ext cx="505080" cy="50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354560" y="2276640"/>
            <a:ext cx="504720" cy="502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506920" y="2276640"/>
            <a:ext cx="505080" cy="50292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48292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706920" y="256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930920" y="2565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451640" y="2421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33856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116000" y="2349360"/>
            <a:ext cx="6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490920" y="2205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71492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050920" y="400536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274920" y="4005360"/>
            <a:ext cx="50508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427640" y="4005360"/>
            <a:ext cx="50472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580000" y="4005360"/>
            <a:ext cx="504720" cy="50328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556000" y="4294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78000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003640" y="429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451640" y="400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41128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258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564000" y="3933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478800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51280" y="537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340000" y="4510080"/>
            <a:ext cx="3456000" cy="804960"/>
          </a:xfrm>
          <a:custGeom>
            <a:avLst/>
            <a:gdLst/>
            <a:ahLst/>
            <a:rect l="l" t="t" r="r" b="b"/>
            <a:pathLst>
              <a:path w="2177" h="507">
                <a:moveTo>
                  <a:pt x="0" y="46"/>
                </a:moveTo>
                <a:cubicBezTo>
                  <a:pt x="499" y="276"/>
                  <a:pt x="998" y="507"/>
                  <a:pt x="1361" y="499"/>
                </a:cubicBezTo>
                <a:cubicBezTo>
                  <a:pt x="1724" y="491"/>
                  <a:pt x="2116" y="8"/>
                  <a:pt x="217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268360" y="2781360"/>
            <a:ext cx="3456000" cy="804960"/>
          </a:xfrm>
          <a:custGeom>
            <a:avLst/>
            <a:gdLst/>
            <a:ahLst/>
            <a:rect l="l" t="t" r="r" b="b"/>
            <a:pathLst>
              <a:path w="2177" h="507">
                <a:moveTo>
                  <a:pt x="0" y="46"/>
                </a:moveTo>
                <a:cubicBezTo>
                  <a:pt x="499" y="276"/>
                  <a:pt x="998" y="507"/>
                  <a:pt x="1361" y="499"/>
                </a:cubicBezTo>
                <a:cubicBezTo>
                  <a:pt x="1724" y="491"/>
                  <a:pt x="2116" y="8"/>
                  <a:pt x="217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258920" y="1555920"/>
            <a:ext cx="2449440" cy="122544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b \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724360" y="1557360"/>
            <a:ext cx="2519640" cy="107964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ad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نباله ورود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547640" y="3214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403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7964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82692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06728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924360" y="3862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419640" y="3862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859280" y="3862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708360" y="4799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716360" y="4799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588000" y="3141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443640" y="3862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308720" y="3862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40360" y="3862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236000" y="4799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227640" y="4799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331640" y="350208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4066920" y="343044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6588000" y="3430440"/>
            <a:ext cx="3621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211280" y="4222800"/>
            <a:ext cx="289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732720" y="422280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 flipV="1">
            <a:off x="7164360" y="343044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 flipV="1">
            <a:off x="4643280" y="34304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 flipV="1">
            <a:off x="4642920" y="42224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1908000" y="3501720"/>
            <a:ext cx="432000" cy="50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7164000" y="422244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093080" y="350208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1835280" y="3575160"/>
            <a:ext cx="14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537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الف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564000" y="537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680400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4-6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جزيه كننده پيشگوي غير بازگشتي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356000" y="134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هاي يك تجزيه كننده غير بازگش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59640" y="2421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651640" y="357336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1280" y="220500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اوي رشته ورودي براي تجزيه با علامت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انتهاي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-252360" y="3141720"/>
            <a:ext cx="6838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نباله اي از نمادهاي گرامر در هر لحظه براي تجزيه با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ته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-1476360" y="4292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پايان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غير پايانه و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A,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]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آرايه دو بعدي عناص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732720" y="2133720"/>
            <a:ext cx="1657080" cy="647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يانگير 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04000" y="3068640"/>
            <a:ext cx="1584360" cy="719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877080" y="4005360"/>
            <a:ext cx="1512720" cy="79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948360" y="5013360"/>
            <a:ext cx="1513080" cy="79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نباله خرو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627280" y="515772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نباله تجزيه شده تا آن 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پيشگوي غير بازگشت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3132000" y="1413000"/>
          <a:ext cx="2936520" cy="613800"/>
        </p:xfrm>
        <a:graphic>
          <a:graphicData uri="http://schemas.openxmlformats.org/drawingml/2006/table">
            <a:tbl>
              <a:tblPr/>
              <a:tblGrid>
                <a:gridCol w="587880"/>
                <a:gridCol w="586080"/>
                <a:gridCol w="588240"/>
                <a:gridCol w="586080"/>
                <a:gridCol w="58824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3419640" y="2781360"/>
            <a:ext cx="230328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نامه تجزيه كننده پيشگ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24360" y="328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19564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419640" y="4437000"/>
            <a:ext cx="2303280" cy="1081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1187280" y="3141720"/>
          <a:ext cx="648000" cy="2341440"/>
        </p:xfrm>
        <a:graphic>
          <a:graphicData uri="http://schemas.openxmlformats.org/drawingml/2006/table">
            <a:tbl>
              <a:tblPr/>
              <a:tblGrid>
                <a:gridCol w="64800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1" name=""/>
          <p:cNvSpPr/>
          <p:nvPr/>
        </p:nvSpPr>
        <p:spPr>
          <a:xfrm>
            <a:off x="90000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05080" y="1486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372360" y="3068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خرو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57200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4572000" y="206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635280" y="2205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شاره گ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غير بازگشتي پيشگو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كرد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476360" y="1916280"/>
            <a:ext cx="5835600" cy="865080"/>
          </a:xfrm>
          <a:prstGeom prst="foldedCorner">
            <a:avLst>
              <a:gd name="adj" fmla="val 13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اشد توقف تجزيه كننده اعلام خاتمه موفق تجزي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= a = $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476360" y="4581360"/>
            <a:ext cx="5764320" cy="935280"/>
          </a:xfrm>
          <a:prstGeom prst="foldedCorner">
            <a:avLst>
              <a:gd name="adj" fmla="val 13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A , a]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غير پايانه باشد مراجعه به وارده در جدو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-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 جايگزيني قانون مناسب آن از جد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476360" y="3213000"/>
            <a:ext cx="5764320" cy="863640"/>
          </a:xfrm>
          <a:prstGeom prst="foldedCorner">
            <a:avLst>
              <a:gd name="adj" fmla="val 13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ز پشته ، انتقال اشاره گر ورودي ب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=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$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ماد بعدي در ورود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 تجزيه كننده غير بازگشتي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826920" y="1341360"/>
            <a:ext cx="151164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     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      +TM 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    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      * FN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  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114560" y="1701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114560" y="191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1114560" y="2206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114560" y="24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114560" y="2782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971640" y="39337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908000" y="350028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916360" y="3500280"/>
            <a:ext cx="0" cy="22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06728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615636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10108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26920" y="3573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غير پاي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97964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771640" y="357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92436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08472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21964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164360" y="35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14836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23600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33380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4365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333440" y="47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282680" y="5084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333440" y="537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3640" y="4076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900160" y="436572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873440" y="46958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995640" y="508464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930320" y="53737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939400" y="508464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5003640" y="40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122800" y="46958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174280" y="53452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179760" y="436572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084720" y="508464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203640" y="2637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826920" y="1341360"/>
            <a:ext cx="180036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221240" y="436572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208280" y="508464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 تجزيه كننده غير بازگشتي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116000" y="134136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484360" y="134136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012000" y="134136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403280" y="1413000"/>
            <a:ext cx="22320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700360" y="1413000"/>
            <a:ext cx="237636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+ 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+ 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+ 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+ 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6156360" y="1484280"/>
            <a:ext cx="20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6046560" y="15987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114960" y="296712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+T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038280" y="1887480"/>
            <a:ext cx="8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115680" y="217476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109560" y="2708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046200" y="4335480"/>
            <a:ext cx="9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* F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940360" y="573408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09560" y="3500280"/>
            <a:ext cx="8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115680" y="375912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6115680" y="49118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074640" y="5445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جموعه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ollow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و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irst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380360" y="1484280"/>
            <a:ext cx="1224000" cy="64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6516720" y="2133720"/>
            <a:ext cx="71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179280" y="2781360"/>
            <a:ext cx="69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هر رشته اي از نمادهاي گرامري باشد، مجموعه پايانه هاي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 رشته كه   اس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a)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شروع مي شون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 هاي مشتق شده ازآنها 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380360" y="3573360"/>
            <a:ext cx="129528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6876720" y="4365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68360" y="486900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لافاصله بعد از آن هستند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جموعه اي از پايانهاست كه در هر شبه جمل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اي غير پايان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/>
          </p:nvPr>
        </p:nvSpPr>
        <p:spPr>
          <a:xfrm>
            <a:off x="394920" y="4149360"/>
            <a:ext cx="82738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قانونهايي بشكل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B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B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F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حاوي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 (           ) هر چيزي در مجموع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(A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مي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024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S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رار داده مي شود كه نماد شروع گرامر است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ماد انتهاي سمت راست رشته وروديست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قانوني به صور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BF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جود دارد آنگاه هرچيزي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F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جز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مجموع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B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مي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7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حاسب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ollow ( A)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144400" y="3333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Arial"/>
                <a:ea typeface="Roya"/>
              </a:rPr>
              <a:t>1-7 </a:t>
            </a:r>
            <a:r>
              <a:rPr b="1" lang="fa-IR" sz="3600" spc="-1" strike="noStrike">
                <a:solidFill>
                  <a:srgbClr val="330033"/>
                </a:solidFill>
                <a:latin typeface="Arial"/>
                <a:cs typeface="Roya"/>
              </a:rPr>
              <a:t>مراحل كامپا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1700280"/>
            <a:ext cx="2408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حليل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- تحليل نح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- تحليل معن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3789360"/>
            <a:ext cx="234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وليد كد مي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بهينه سازي ك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وليد كد نه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1773360"/>
            <a:ext cx="4248000" cy="792000"/>
          </a:xfrm>
          <a:prstGeom prst="ellipse">
            <a:avLst/>
          </a:prstGeom>
          <a:solidFill>
            <a:srgbClr val="cccc99"/>
          </a:solidFill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لوبندي( گروه فازهاي متوالي وابسته به زبان مبدا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005360"/>
            <a:ext cx="4321080" cy="792000"/>
          </a:xfrm>
          <a:prstGeom prst="ellipse">
            <a:avLst/>
          </a:prstGeom>
          <a:solidFill>
            <a:srgbClr val="cccc99"/>
          </a:solidFill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قب بندي( گروه فازهاي متولي وابسته به زبان مقص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1341360"/>
            <a:ext cx="73080" cy="1727280"/>
          </a:xfrm>
          <a:custGeom>
            <a:avLst/>
            <a:gdLst>
              <a:gd name="textAreaLeft" fmla="*/ 0 w 73080"/>
              <a:gd name="textAreaRight" fmla="*/ 26280 w 73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1341360"/>
            <a:ext cx="216000" cy="1943280"/>
          </a:xfrm>
          <a:custGeom>
            <a:avLst/>
            <a:gdLst>
              <a:gd name="textAreaLeft" fmla="*/ 0 w 216000"/>
              <a:gd name="textAreaRight" fmla="*/ 78120 w 216000"/>
              <a:gd name="textAreaTop" fmla="*/ 151920 h 1943280"/>
              <a:gd name="textAreaBottom" fmla="*/ 179136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3500280"/>
            <a:ext cx="216000" cy="1943280"/>
          </a:xfrm>
          <a:custGeom>
            <a:avLst/>
            <a:gdLst>
              <a:gd name="textAreaLeft" fmla="*/ 0 w 216000"/>
              <a:gd name="textAreaRight" fmla="*/ 78120 w 216000"/>
              <a:gd name="textAreaTop" fmla="*/ 151920 h 1943280"/>
              <a:gd name="textAreaBottom" fmla="*/ 179136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/>
          </p:nvPr>
        </p:nvSpPr>
        <p:spPr>
          <a:xfrm>
            <a:off x="-252720" y="4221000"/>
            <a:ext cx="9001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غيرپايانه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Y1Y2…Y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انون گرامر، براي هر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(Yi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 و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تمام مجموعه ها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 Y1)…First (Y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رار داشت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باشد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مجموع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X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مي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ايانه باشد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X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برست با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انون گرامر باشد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X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مي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7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حاسب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irst ( A)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مجموعه هاي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ollow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و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First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276720" y="2060640"/>
            <a:ext cx="287280" cy="345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556000" y="306864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553200" y="2133720"/>
            <a:ext cx="4766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irst (E) = First (T) = First (F) = { ( , i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irst (E`) = { +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irst (T`) = { *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ollow (E) = Follow (E`) = { ) , $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ollow (T) = Follow (T`) = { + , ) , $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Follow (F) = { + , * , ) ,$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826920" y="1341360"/>
            <a:ext cx="151164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     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      +TM 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    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      * FN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  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114560" y="1701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114560" y="191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114560" y="2206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114560" y="24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114560" y="2782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826920" y="1341360"/>
            <a:ext cx="180036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539280" y="4076640"/>
            <a:ext cx="824724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گر  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E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 هر پايان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[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شود. اگر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E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 A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 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, $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قانون از گرامر بصور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راح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كرار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پايان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irst (E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[A , a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ضافه شو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916360" y="1988640"/>
            <a:ext cx="4968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(TE`) = First (T) = { ( , id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971640" y="39337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26920" y="3573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غير پاي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97964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2771640" y="357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92436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608472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21964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7164360" y="35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33380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54764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003640" y="40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90800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98764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85128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78800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630072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308720" y="3933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411280" y="2421000"/>
            <a:ext cx="5040360" cy="1008000"/>
          </a:xfrm>
          <a:custGeom>
            <a:avLst/>
            <a:gdLst/>
            <a:ahLst/>
            <a:rect l="l" t="t" r="r" b="b"/>
            <a:pathLst>
              <a:path w="3175" h="544">
                <a:moveTo>
                  <a:pt x="3175" y="0"/>
                </a:moveTo>
                <a:cubicBezTo>
                  <a:pt x="2147" y="68"/>
                  <a:pt x="1119" y="136"/>
                  <a:pt x="590" y="227"/>
                </a:cubicBezTo>
                <a:cubicBezTo>
                  <a:pt x="61" y="318"/>
                  <a:pt x="30" y="431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724360" y="2421000"/>
            <a:ext cx="1368720" cy="1008000"/>
          </a:xfrm>
          <a:custGeom>
            <a:avLst/>
            <a:gdLst/>
            <a:ahLst/>
            <a:rect l="l" t="t" r="r" b="b"/>
            <a:pathLst>
              <a:path w="907" h="635">
                <a:moveTo>
                  <a:pt x="907" y="0"/>
                </a:moveTo>
                <a:cubicBezTo>
                  <a:pt x="687" y="151"/>
                  <a:pt x="468" y="302"/>
                  <a:pt x="317" y="408"/>
                </a:cubicBezTo>
                <a:cubicBezTo>
                  <a:pt x="166" y="514"/>
                  <a:pt x="53" y="605"/>
                  <a:pt x="0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484360" y="2852640"/>
            <a:ext cx="720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114560" y="1701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114560" y="191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114560" y="2206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114560" y="24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114560" y="27828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84360" y="1197000"/>
            <a:ext cx="180000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9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شناسايي گرامر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L(1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10920" y="3428640"/>
            <a:ext cx="8057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داكثر يكي از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ي توانند رشته تهي توليد كنن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شته اي شروع شونده با پايانه هاي مجموع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 A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 نمي كن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95280" y="134136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گرامري كه ابهام يا بازگشتي چپ ندار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 \ F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و قانون ا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شند براي هيچ پايانه اي مانند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، هر دو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شته هاي شروع شونده با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وليد نمي كنن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گرامر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L (1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932360" y="2060640"/>
            <a:ext cx="3449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L (1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ست زيرا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781200" y="3500280"/>
            <a:ext cx="83628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 +TE`) = { + }, First (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) ,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( + 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 E` ) = { +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, follow ( E` ) = { $ , ) } , { +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 { $ , ) }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 *FT) = { * } , First (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)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 , { * }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 T`) = {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, * } , Follow ( T`) = { $ , ) , + } , {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, * }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{ $ , ) + }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(E)) { ( } , First ( id ) = { id } , { ( }   { id }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900000" y="1268280"/>
            <a:ext cx="1800360" cy="17290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/>
          </p:nvPr>
        </p:nvSpPr>
        <p:spPr>
          <a:xfrm>
            <a:off x="4643280" y="5013000"/>
            <a:ext cx="381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L (1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يست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گرامر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L (1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971640" y="1557360"/>
            <a:ext cx="2160360" cy="1655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EtSF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924360" y="314172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924360" y="3645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924360" y="4149720"/>
            <a:ext cx="41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50072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07672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565164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22764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80400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7380360" y="299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99744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3997080" y="371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99744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64472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79780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37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221080" y="2781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949800" y="2781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45164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35600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58000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012000" y="37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02000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732720" y="429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419640" y="206064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rot="1213200">
            <a:off x="2916000" y="1700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0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وشش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258560" y="4941720"/>
            <a:ext cx="6840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نار گذاردن نمادهاي ورودي بعدي تا زمان ظاهر شدن شناسه اي متعلق به مجموعه اي از شناسه هاي هماهنگ كنند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8360" y="2060280"/>
            <a:ext cx="7199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دم تطابق پايانه موجود در بالاي پشته با نماد ورودي بعد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خالي بودن وارده جدول براي غير پايان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در بالاي پشته و پايانه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عنوان نماد ورودي بعد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380360" y="1341360"/>
            <a:ext cx="1008000" cy="432000"/>
          </a:xfrm>
          <a:prstGeom prst="rect">
            <a:avLst/>
          </a:prstGeom>
          <a:solidFill>
            <a:srgbClr val="e1e0c2"/>
          </a:solidFill>
          <a:ln w="9360">
            <a:solidFill>
              <a:srgbClr val="525128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ع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588000" y="3933720"/>
            <a:ext cx="2016360" cy="647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پوشش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67640" y="1916280"/>
            <a:ext cx="217440" cy="865080"/>
            <a:chOff x="7667640" y="1916280"/>
            <a:chExt cx="217440" cy="865080"/>
          </a:xfrm>
        </p:grpSpPr>
        <p:sp>
          <p:nvSpPr>
            <p:cNvPr id="1689" name=""/>
            <p:cNvSpPr/>
            <p:nvPr/>
          </p:nvSpPr>
          <p:spPr>
            <a:xfrm>
              <a:off x="7885080" y="1916280"/>
              <a:ext cx="0" cy="865080"/>
            </a:xfrm>
            <a:prstGeom prst="line">
              <a:avLst/>
            </a:prstGeom>
            <a:ln w="19080">
              <a:solidFill>
                <a:srgbClr val="918f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67640" y="2276640"/>
              <a:ext cx="217440" cy="0"/>
            </a:xfrm>
            <a:prstGeom prst="line">
              <a:avLst/>
            </a:prstGeom>
            <a:ln w="19080">
              <a:solidFill>
                <a:srgbClr val="918f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67640" y="2781360"/>
              <a:ext cx="217440" cy="0"/>
            </a:xfrm>
            <a:prstGeom prst="line">
              <a:avLst/>
            </a:prstGeom>
            <a:ln w="19080">
              <a:solidFill>
                <a:srgbClr val="918f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8317080" y="2997360"/>
            <a:ext cx="431640" cy="576000"/>
          </a:xfrm>
          <a:prstGeom prst="ellipse">
            <a:avLst/>
          </a:prstGeom>
          <a:solidFill>
            <a:srgbClr val="ffffe1"/>
          </a:solidFill>
          <a:ln w="1908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8317080" y="3933720"/>
            <a:ext cx="431640" cy="576360"/>
          </a:xfrm>
          <a:prstGeom prst="ellipse">
            <a:avLst/>
          </a:prstGeom>
          <a:solidFill>
            <a:srgbClr val="ffffe1"/>
          </a:solidFill>
          <a:ln w="1908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8317080" y="4724280"/>
            <a:ext cx="431640" cy="576360"/>
          </a:xfrm>
          <a:prstGeom prst="ellipse">
            <a:avLst/>
          </a:prstGeom>
          <a:solidFill>
            <a:srgbClr val="ffffe1"/>
          </a:solidFill>
          <a:ln w="1908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8317080" y="1628640"/>
            <a:ext cx="431640" cy="576360"/>
          </a:xfrm>
          <a:prstGeom prst="ellipse">
            <a:avLst/>
          </a:prstGeom>
          <a:solidFill>
            <a:srgbClr val="ffffe1"/>
          </a:solidFill>
          <a:ln w="19080">
            <a:solidFill>
              <a:srgbClr val="959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0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نتخاب مجموعه هماهنگ كنن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39640" y="1628640"/>
            <a:ext cx="7777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ذاردن تمام نماده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ollow (A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مجموعه هماهنگ كننده غير مجموعه پايانه  و بررسي ورودي تا زمان ظاهر شدن يك عضو از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39640" y="2706840"/>
            <a:ext cx="77774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ذاردن مجموعه نمادهاي شروع كننده ساختارهاي سطح بالاتر زبان به همراه مجموعه هماهنگ كننده ساختارهاي سطوح پايين تر زبان مانند كلمات كليدي به اضافه مجموع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ollow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39640" y="4150800"/>
            <a:ext cx="777744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ذاردن مجموع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مجموعه هماهنگ كننده غير پايان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39640" y="482760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نونهاي توليد كننده غير پايانه تهي براي غير پايانه هاي قادر به اشتقاق ت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8388360" y="1773360"/>
            <a:ext cx="2588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8f4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918f4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8388360" y="3068640"/>
            <a:ext cx="2588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8f4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918f4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8388360" y="4076640"/>
            <a:ext cx="2588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8f4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918f4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8388360" y="4827600"/>
            <a:ext cx="2588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8f4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918f4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بروز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604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در صورت خالي بودن وارده جدول ، نماد ورودي حذ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در صورت ورود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y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 از مجموعه نشانه هاي هماهنگ كنن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ollow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خروج غير پايانه بالاي پشته براي امكان ادامه تجزي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55640" y="422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صورت عدم تطابق نشانه بالاي پشته با نماد ورودي ، خروج نشانه از پشت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422520" y="1144440"/>
            <a:ext cx="1683000" cy="5000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1916280"/>
            <a:ext cx="1682640" cy="5014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2708280"/>
            <a:ext cx="1782720" cy="595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معن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3573360"/>
            <a:ext cx="2176560" cy="5018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 كننده كد مي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365720"/>
            <a:ext cx="1781280" cy="476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ينه ساز ك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5157720"/>
            <a:ext cx="2275200" cy="479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كننده كد نه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3429000"/>
            <a:ext cx="1978200" cy="584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دير جدول نم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3500280"/>
            <a:ext cx="1782720" cy="584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داره كننده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1700280"/>
            <a:ext cx="14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2492280"/>
            <a:ext cx="144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3357720"/>
            <a:ext cx="14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414972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494172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292720" y="4149720"/>
            <a:ext cx="79056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2781360"/>
            <a:ext cx="5745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2133720"/>
            <a:ext cx="115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4221000"/>
            <a:ext cx="151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1557360"/>
            <a:ext cx="1584360" cy="172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8720" y="378936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580000" y="4149360"/>
            <a:ext cx="165276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133720"/>
            <a:ext cx="11509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619280" y="1557000"/>
            <a:ext cx="172872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71640" y="3789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4221000"/>
            <a:ext cx="6494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0360" y="2852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3336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ea typeface="Roya"/>
              </a:rPr>
              <a:t>1-7-1 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نمودار مراحل كامپا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بروز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88000" y="148428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id + * id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 ورودي داراي خطا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6804000" y="2924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900000" y="1268280"/>
            <a:ext cx="1800360" cy="17290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26920" y="34275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26920" y="386064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763640" y="34275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771640" y="34275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92256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01200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5672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82560" y="3500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غير پاي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83528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2627280" y="350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78000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940360" y="34275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075280" y="3427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020000" y="3500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00364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7091280" y="34275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189080" y="400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11509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188720" y="4651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137960" y="5011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188720" y="530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619280" y="40035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2755800" y="429264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728720" y="462276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851280" y="5011560"/>
            <a:ext cx="12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785960" y="530064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794680" y="501156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859280" y="3932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978440" y="462276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5029560" y="5272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035400" y="429264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940360" y="50115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076520" y="429264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7063560" y="501156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بروز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451640" y="1484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877080" y="285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828720" y="234936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828720" y="27828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765440" y="2349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773440" y="234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92436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01344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795816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684360" y="24224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غير پاي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836720" y="2422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629080" y="2422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781440" y="2422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942160" y="2349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07672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021440" y="2422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500544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093080" y="2349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190880" y="292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152720" y="3214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190520" y="35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139760" y="3933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190520" y="422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620720" y="2925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2757240" y="321480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730520" y="35449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3852720" y="393372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787400" y="42228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96480" y="393372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861080" y="28544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979880" y="35449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031360" y="4194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6036840" y="321480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942160" y="39337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7078320" y="3214800"/>
            <a:ext cx="9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065360" y="3933720"/>
            <a:ext cx="9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262728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78000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94036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40360" y="285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94036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7708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87708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62728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sy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بروز خطا در تجزيه پيشگو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116000" y="141300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484360" y="134136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012000" y="134136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403280" y="1413000"/>
            <a:ext cx="22320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T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E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2700360" y="1413000"/>
            <a:ext cx="237636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 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156360" y="1484280"/>
            <a:ext cx="201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5867280" y="141300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, skip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867280" y="162864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 is in First (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435640" y="32846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M [F, + ] = sy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580000" y="35733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 has been p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16436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بالا به پايين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نتقال كاهش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187280" y="2276640"/>
            <a:ext cx="6912000" cy="86508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عي در ايجاد درخت تجزيه با شروع از برگها و رفتن به سمت ريشه = كاه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1332000" y="3645000"/>
            <a:ext cx="6408720" cy="1295280"/>
          </a:xfrm>
          <a:prstGeom prst="beve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يك زيررشته خاص منطبق با سمت راست يك قانون با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مت چپ همان قان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572000" y="306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بالا به پايين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نتقال كاهش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58920" y="1700280"/>
            <a:ext cx="194472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bc \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500720" y="126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نباله ورود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924360" y="2347920"/>
            <a:ext cx="144360" cy="2665440"/>
          </a:xfrm>
          <a:custGeom>
            <a:avLst/>
            <a:gdLst>
              <a:gd name="textAreaLeft" fmla="*/ 42480 w 144360"/>
              <a:gd name="textAreaRight" fmla="*/ 144360 w 144360"/>
              <a:gd name="textAreaTop" fmla="*/ 110880 h 2665440"/>
              <a:gd name="textAreaBottom" fmla="*/ 25545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284720" y="2637000"/>
            <a:ext cx="25923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bc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bc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B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71640" y="5445000"/>
            <a:ext cx="612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  aAB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 aAd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   aAbcd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  abbcde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شتقاق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 تجزيه انتقال كاهش -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116000" y="1700280"/>
            <a:ext cx="7056360" cy="1079280"/>
          </a:xfrm>
          <a:prstGeom prst="foldedCorner">
            <a:avLst>
              <a:gd name="adj" fmla="val 1250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ير رشته اي منطبق بر سمت راست يك قانون و ايجاد كننده يك كاه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غير پايانه سمت چپ آن قانون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804000" y="3284640"/>
            <a:ext cx="1584360" cy="57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يژگي دستگير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042920" y="4292640"/>
            <a:ext cx="7056360" cy="1079640"/>
          </a:xfrm>
          <a:prstGeom prst="foldedCorner">
            <a:avLst>
              <a:gd name="adj" fmla="val 1250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ير رشته اي كه با عمل كاهش با توانايي هدايت تجزيه كنن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عنصر شروع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00720" y="126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نباله ورود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132000" y="1413000"/>
            <a:ext cx="144720" cy="2665440"/>
          </a:xfrm>
          <a:custGeom>
            <a:avLst/>
            <a:gdLst>
              <a:gd name="textAreaLeft" fmla="*/ 42480 w 144720"/>
              <a:gd name="textAreaRight" fmla="*/ 145080 w 144720"/>
              <a:gd name="textAreaTop" fmla="*/ 110880 h 2665440"/>
              <a:gd name="textAreaBottom" fmla="*/ 25545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348000" y="1700280"/>
            <a:ext cx="25923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bc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bc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d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B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124000" y="5229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132000" y="4797360"/>
            <a:ext cx="136872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دستگير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5076720" y="4437000"/>
            <a:ext cx="136692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859280" y="4292640"/>
            <a:ext cx="144360" cy="1657440"/>
          </a:xfrm>
          <a:custGeom>
            <a:avLst/>
            <a:gdLst>
              <a:gd name="textAreaLeft" fmla="*/ 42480 w 144360"/>
              <a:gd name="textAreaRight" fmla="*/ 144360 w 144360"/>
              <a:gd name="textAreaTop" fmla="*/ 68760 h 1657440"/>
              <a:gd name="textAreaBottom" fmla="*/ 158868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826920" y="2060640"/>
            <a:ext cx="194472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bc \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292720" y="1268280"/>
            <a:ext cx="20160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979640" y="1557360"/>
            <a:ext cx="187164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067280" y="177336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979640" y="3213000"/>
            <a:ext cx="1871640" cy="863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مت راست ت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شتق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140360" y="3573360"/>
            <a:ext cx="1079280" cy="144720"/>
          </a:xfrm>
          <a:prstGeom prst="rightArrow">
            <a:avLst>
              <a:gd name="adj1" fmla="val 50000"/>
              <a:gd name="adj2" fmla="val 1864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435640" y="3429000"/>
            <a:ext cx="29527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7380360" y="357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403280" y="3141720"/>
            <a:ext cx="172728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ستگير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635280" y="2133720"/>
            <a:ext cx="216000" cy="28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211640" y="242100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156360" y="2421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57200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م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6588000" y="1989000"/>
            <a:ext cx="10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211640" y="2781360"/>
            <a:ext cx="187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443640" y="2781360"/>
            <a:ext cx="2303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1-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ستگيره- هرس نمود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-757080" y="148428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انايي توليد معكوس سمت راست ترين اشتقاق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443640" y="1413000"/>
            <a:ext cx="2016000" cy="649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زيت هرس نمو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443640" y="2421000"/>
            <a:ext cx="201600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احل هرس نمو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26920" y="2708280"/>
            <a:ext cx="5329440" cy="1152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جمله گرامر براي تجزيه باشد، آنگا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W = Yn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شبه جمل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راس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ام از سمت راست ترين اشتقاق نامشخ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826920" y="3860640"/>
            <a:ext cx="5329440" cy="1152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- يافتن دستگير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n-1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Yn-1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و كاهش آن ت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بدست آمدن شبه جمله راس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Yn-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826920" y="5013360"/>
            <a:ext cx="5329440" cy="79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- توقف عمليات در صورت رسيدن به عنص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شروع گرام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راحل کامپايلر- تحليل 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24200" y="1701720"/>
            <a:ext cx="5095800" cy="1224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رور متن برنامه به صورت حرف به حرف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06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3933720"/>
            <a:ext cx="7332840" cy="1224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بديل آنها به نشانه ها ( كلمات كليدي، عملگر، جداكننده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ثوابت و شناس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هرس نمودن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372360" y="1989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116000" y="321300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116000" y="3645000"/>
            <a:ext cx="69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132000" y="321300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4788000" y="3213000"/>
            <a:ext cx="144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189080" y="3213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شبه جمله ر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844720" y="321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221440" y="3213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نون كاهش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187280" y="3789360"/>
            <a:ext cx="1873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419640" y="3789360"/>
            <a:ext cx="2303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5219640" y="3645000"/>
            <a:ext cx="26640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826920" y="1197000"/>
            <a:ext cx="20163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1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شكلات هرس نمودن دستگير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167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عيين زير رشته مناسب براي كاهش در يك شبه جمله راس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انتخاب قانون مناسب در موارد وجود دو يا بيشتر قانون با زير رشته يكسان در سمت راست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انتقال كاهش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900000" y="1341360"/>
            <a:ext cx="7201080" cy="1150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پشته به منظور نگهداري نمادهاي گرامر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ميانگير ورودي جهت نگهداري رشته مورد نظر براي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227640" y="393372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وند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6732720" y="2924280"/>
            <a:ext cx="71280" cy="2665440"/>
          </a:xfrm>
          <a:custGeom>
            <a:avLst/>
            <a:gdLst>
              <a:gd name="textAreaLeft" fmla="*/ 0 w 71280"/>
              <a:gd name="textAreaRight" fmla="*/ 25560 w 712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763640" y="3213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قال صفر يا چند نماد به پشته توسط تجزيه كن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403280" y="4221000"/>
            <a:ext cx="489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4360" y="407664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دامه 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تا زمان پيدا شدن يك دستگيره در بالاي 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55640" y="486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هش دستگيره پيدا شده به سمت چپ قانون گرامري مناسب آ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يات انتقال كاهش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164360" y="4941720"/>
            <a:ext cx="1368360" cy="64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164360" y="1557360"/>
            <a:ext cx="1368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تق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164360" y="2637000"/>
            <a:ext cx="1368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اه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164360" y="3789360"/>
            <a:ext cx="1368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ذير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6877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687708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687708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687708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258920" y="1773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تقال نماد بعدي ورودي به بالاي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332000" y="2565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جود انتهاي سمت راست دستگيره در بالاي پشته و يافتن سمت چپ آن و تصميم گيري براي جايگزي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700360" y="4005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م تكميل موفقيت آميز عمل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187280" y="508464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شخيص خطاي نحوي و فراخواني رويه پوشش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انتقال كاهش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59600" y="414972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6516720" y="1268280"/>
            <a:ext cx="20160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6443640" y="1125360"/>
            <a:ext cx="208764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042920" y="3357720"/>
            <a:ext cx="29527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E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 + id2 * 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900000" y="3141720"/>
            <a:ext cx="302436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H="1">
            <a:off x="4427280" y="2060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4211280" y="4508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2195640" y="17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انتقال كاهش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971640" y="1413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203640" y="119700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292720" y="119700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26920" y="1052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132000" y="98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796000" y="981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1042920" y="1557360"/>
            <a:ext cx="216072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i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 id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 E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 + E * i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E + E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E +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843280" y="1557360"/>
            <a:ext cx="244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1 + id2 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id2 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id2 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2 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id3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3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364000" y="1557360"/>
            <a:ext cx="237672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by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by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by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by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انتقال كاهش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يشوند قابل وقوع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692360" y="1916280"/>
            <a:ext cx="5689440" cy="936360"/>
          </a:xfrm>
          <a:prstGeom prst="bevel">
            <a:avLst>
              <a:gd name="adj" fmla="val 5764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جموعه پيشوندهاي شبه جملات راست ظاهر شونده 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شته يك تجزيه كننده انتقال كاهش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3564000" y="3284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692360" y="4221000"/>
            <a:ext cx="5689440" cy="936720"/>
          </a:xfrm>
          <a:prstGeom prst="bevel">
            <a:avLst>
              <a:gd name="adj" fmla="val 5764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يشوندي از يك شبه جمله راست عبور نكننده از انتها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است سمت راست ترين دستگيره آن شبه جم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4-14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جزيه انتقال كاهش- تناقض ها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300720" y="1773360"/>
            <a:ext cx="2232000" cy="1079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ناقض انتقال - كاه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6372360" y="3716280"/>
            <a:ext cx="2232000" cy="1081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ناقض كاهش كاه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755640" y="1916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رديد در عمل انتقال يا عمل كاهش در زمان تصميم گيري براي تجزيه كنند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900000" y="4076640"/>
            <a:ext cx="52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جود چند قانون براي كاهش يك رشته در يك 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عملگر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227640" y="1484280"/>
            <a:ext cx="1729080" cy="792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نوع عمل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651640" y="2349360"/>
            <a:ext cx="72720" cy="1798920"/>
          </a:xfrm>
          <a:custGeom>
            <a:avLst/>
            <a:gdLst>
              <a:gd name="textAreaLeft" fmla="*/ 0 w 72720"/>
              <a:gd name="textAreaRight" fmla="*/ 51120 w 72720"/>
              <a:gd name="textAreaTop" fmla="*/ 74880 h 1798920"/>
              <a:gd name="textAreaBottom" fmla="*/ 1724040 h 17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835280" y="25653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  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داشته باش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 </a:t>
            </a:r>
            <a:r>
              <a:rPr b="1" lang="fa-I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وا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826920" y="328464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سمت راست قوانين توليد، هيچ كدام از دو پايانه كنار هم نباشن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عملگ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042920" y="2205000"/>
            <a:ext cx="2881440" cy="1152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AE \ ( E ) \ - E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+ \ - \ /  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924360" y="1413000"/>
            <a:ext cx="107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2050920" y="1413000"/>
            <a:ext cx="18734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924360" y="242100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جود دو غير پايانه در سمت راست قان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851280" y="4365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عملگر ني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219640" y="3068640"/>
            <a:ext cx="362160" cy="1008000"/>
          </a:xfrm>
          <a:prstGeom prst="downArrow">
            <a:avLst>
              <a:gd name="adj1" fmla="val 40352"/>
              <a:gd name="adj2" fmla="val 6486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2771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راحل كامپايل- تحليل گر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2421000"/>
            <a:ext cx="374508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رسي خروجي تحليل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4076640"/>
            <a:ext cx="5073840" cy="6541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 درخت تجزيه از نشان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328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نقطه ضعفهاي روش عملگر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900000" y="1989000"/>
            <a:ext cx="7559640" cy="863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شوار بودن اداره نمودن نشانه هايي مانند علامت منها با دو اولويت متفاو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وديي يا يگان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900000" y="3068640"/>
            <a:ext cx="7559640" cy="79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دم اطمينان از نتيجه درست تجزيه به دليل رابطه نزديك بين گرامر زبان در حال تجزيه 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 عملگر اولو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900000" y="4149720"/>
            <a:ext cx="7559640" cy="79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بليت تجزيه بر روي تنها رده كوچكي از گرامرها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عيين اولويت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47640" y="155736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رابطه اولويت مجزاي بين هر زوج از پايانه ها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1332000" y="2852640"/>
            <a:ext cx="60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1332000" y="350028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651640" y="285264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411280" y="292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فه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872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ابط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050920" y="364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ولوي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كمتر ا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050920" y="4797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ولوي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يش ا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050920" y="422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اولوي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يكسان ا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94036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&lt;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012000" y="42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=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01200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. &gt;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روشهاي تعيين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95640" y="1773360"/>
            <a:ext cx="5400720" cy="9349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شركت پذيري و اولويت موجود بين خود عملگرها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 زبان مانند اولويت هاي ز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971640" y="3068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.&gt;  +    , +  &lt; .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195640" y="4149720"/>
            <a:ext cx="5400720" cy="1152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يجاد گرامر غير مبهمي براي زبان و درخت تجزيه آن 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بليت انعكاس شركت پذيري و اولويت صحيح بين عناص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ايانه در درخ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عملگر اولويت </a:t>
            </a:r>
            <a:r>
              <a:rPr b="1" lang="ar-SA" sz="32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عيين اولويتها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908000" y="2565360"/>
            <a:ext cx="53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2771640" y="227664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1" name=""/>
          <p:cNvGraphicFramePr/>
          <p:nvPr/>
        </p:nvGraphicFramePr>
        <p:xfrm>
          <a:off x="4140360" y="2349360"/>
          <a:ext cx="3801960" cy="3189600"/>
        </p:xfrm>
        <a:graphic>
          <a:graphicData uri="http://schemas.openxmlformats.org/drawingml/2006/table">
            <a:tbl>
              <a:tblPr/>
              <a:tblGrid>
                <a:gridCol w="502920"/>
                <a:gridCol w="582840"/>
                <a:gridCol w="544320"/>
                <a:gridCol w="541440"/>
                <a:gridCol w="544680"/>
                <a:gridCol w="542880"/>
                <a:gridCol w="542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2" name=""/>
          <p:cNvSpPr/>
          <p:nvPr/>
        </p:nvSpPr>
        <p:spPr>
          <a:xfrm>
            <a:off x="684360" y="1197000"/>
            <a:ext cx="1800000" cy="1728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E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+TE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F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* FT`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(E) \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ستفاده از اولويت ها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116000" y="1557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رار دادن روابط اولويت بين پايانه ها  در رشته ورودي به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1547640" y="249228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قرار دادن علامت $  ابتدا و انتهاي رشته ورودي به همراه اولويت آن نسبت به اولين پايانه و آخرين پايانه ر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2700360" y="371628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ذف غير پايانه ها از جمله 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763640" y="4653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پويش از انتهاي چپ رشته تا رسيدن به اولين اولويت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&gt;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ستفاده از اولويت 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39640" y="29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&gt;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6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يين دستگيره شامل هر چيزي در سمت چپ اولين راس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 در مرحل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&lt;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 سمت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971640" y="17733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پويش به عقب ( چپ ) از همان نقطه با پشت سرگذاردن ه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ا رسيدن ب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&l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ستفاده از اولويت 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627280" y="1413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شته ورودي به تجزيه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 + id *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268360" y="2133720"/>
            <a:ext cx="4391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  &lt;. Id  .&gt; +   &lt;.  Id  .&gt;  * &lt;. id  .&gt; $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7236000" y="4005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7236000" y="465300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763640" y="393372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زمان ديدن اولي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gt;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.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ز سمت چپ بين اول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d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826920" y="4653000"/>
            <a:ext cx="62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ويش به عقب ردشدن از روي = در صورت وجود برخورد ب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lt;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ولين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ستفاده از اولويت 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7308720" y="1557360"/>
            <a:ext cx="10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050920" y="198900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826920" y="1557360"/>
            <a:ext cx="655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 بين اولي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g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  و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l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يعني  اولي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d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سمت چپ و تبديل آن 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5003640" y="1628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003640" y="17715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36000" y="249228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971640" y="2492280"/>
            <a:ext cx="640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شخيص ساير دستگيره هاي مشابه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d2 , id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} و باقيمانده دنباله ورودي به شك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   &lt;.  +  &lt; . * .&gt;  $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7308720" y="393372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11280" y="393372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 بعدي بين + و * و انتهاي راست آن بين * و $ يعن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 * 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تبديل 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7308720" y="486900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55640" y="486900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ستگيره بعدي بين + و $ يعن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 + 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تبديل ب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پايان تجزيه انتقال كاهش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Roya"/>
              </a:rPr>
              <a:t>–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عملگر اولويت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ولويتهاي بديه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55640" y="220500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گر عمل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ولويت بيشتر از عمل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اشته باشد، رواب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. &gt;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 &lt;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ين آنها برقرار است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39640" y="3645000"/>
            <a:ext cx="77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عملگرهاي با اولويت يكسان باشند، اگر هر دو شركت پذير از راست هستند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&lt;.  A , A &lt;.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پركت پذير از چپ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.&gt; A  , A .&gt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ولويتهاي بديه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843280" y="1628640"/>
            <a:ext cx="56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براي تمام عملگرهاي مانن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روابط زير برقرار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684360" y="2349360"/>
            <a:ext cx="792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  &lt;.   A        A   .&gt;   $        A   .&gt;    )        )  .&gt;    A        (   &lt;.  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&lt;.   (        id   .&gt;   A        A   &lt;.  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4284720" y="364500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روابط زير هميشه برقرارن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684360" y="4221000"/>
            <a:ext cx="4679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= )             (     &lt;.     (            (    &lt;. 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 &lt;. (          id   .&gt;    $           id   .&gt;   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 &lt;.  id        )     .&gt;   $             )     .&gt;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7810560" y="68835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8026560" y="70992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راحل كامپايل - تحليل گر معناي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421000"/>
            <a:ext cx="539928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رسي برنامه مبدا براي يافتن خطاهاي معن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4292640"/>
            <a:ext cx="5911920" cy="776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مع آوري اطلاعات مربوط به نوع داد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- جدول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659640" y="2997360"/>
            <a:ext cx="1657440" cy="431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فرض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227640" y="1700280"/>
            <a:ext cx="144720" cy="3168720"/>
          </a:xfrm>
          <a:custGeom>
            <a:avLst/>
            <a:gdLst>
              <a:gd name="textAreaLeft" fmla="*/ 0 w 144720"/>
              <a:gd name="textAreaRight" fmla="*/ 52200 w 1447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11280" y="184464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ان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لاترين اولويت و شركت پذير از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 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22360" y="3068640"/>
            <a:ext cx="55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 /  بالاترين اولويت بعدي و شركت پذير از چ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01520" y="4221000"/>
            <a:ext cx="600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+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Roya"/>
              </a:rPr>
              <a:t>–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پايين ترين اولويت و شركت پذير از چ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 - جدول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97" name=""/>
          <p:cNvGraphicFramePr/>
          <p:nvPr/>
        </p:nvGraphicFramePr>
        <p:xfrm>
          <a:off x="755640" y="1341360"/>
          <a:ext cx="5472000" cy="4556160"/>
        </p:xfrm>
        <a:graphic>
          <a:graphicData uri="http://schemas.openxmlformats.org/drawingml/2006/table">
            <a:tbl>
              <a:tblPr/>
              <a:tblGrid>
                <a:gridCol w="546120"/>
                <a:gridCol w="546120"/>
                <a:gridCol w="547560"/>
                <a:gridCol w="547920"/>
                <a:gridCol w="552240"/>
                <a:gridCol w="544680"/>
                <a:gridCol w="547560"/>
                <a:gridCol w="547560"/>
                <a:gridCol w="546120"/>
                <a:gridCol w="54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&lt;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8" name=""/>
          <p:cNvSpPr/>
          <p:nvPr/>
        </p:nvSpPr>
        <p:spPr>
          <a:xfrm>
            <a:off x="6443640" y="2781360"/>
            <a:ext cx="172728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جدول اولويت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گر اولويت - توابع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08000" y="2421000"/>
            <a:ext cx="4967640" cy="79200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( a )   &lt;.  g ( b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هر گا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   &lt;.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908000" y="3500280"/>
            <a:ext cx="4967640" cy="79236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( a )  =   g ( b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هر گا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  =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908000" y="4579920"/>
            <a:ext cx="4967640" cy="79236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( a )   .&gt;   g ( b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هر گا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.&gt;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843280" y="155736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و تاب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 كدگذاري جدول اولويت براي پارس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 - توابع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5" name=""/>
          <p:cNvGraphicFramePr/>
          <p:nvPr/>
        </p:nvGraphicFramePr>
        <p:xfrm>
          <a:off x="1187280" y="1916280"/>
          <a:ext cx="5545440" cy="1477800"/>
        </p:xfrm>
        <a:graphic>
          <a:graphicData uri="http://schemas.openxmlformats.org/drawingml/2006/table">
            <a:tbl>
              <a:tblPr/>
              <a:tblGrid>
                <a:gridCol w="554040"/>
                <a:gridCol w="554040"/>
                <a:gridCol w="555840"/>
                <a:gridCol w="554040"/>
                <a:gridCol w="555480"/>
                <a:gridCol w="554040"/>
                <a:gridCol w="554040"/>
                <a:gridCol w="555840"/>
                <a:gridCol w="554040"/>
                <a:gridCol w="55404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6" name=""/>
          <p:cNvSpPr/>
          <p:nvPr/>
        </p:nvSpPr>
        <p:spPr>
          <a:xfrm flipV="1">
            <a:off x="4284720" y="198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7020000" y="2349360"/>
            <a:ext cx="136836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اولو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2484360" y="4076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900000" y="422100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&lt; 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                 f ( * ) &lt; g(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068720" y="4363920"/>
            <a:ext cx="647640" cy="144720"/>
          </a:xfrm>
          <a:prstGeom prst="rightArrow">
            <a:avLst>
              <a:gd name="adj1" fmla="val 50000"/>
              <a:gd name="adj2" fmla="val 11187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700360" y="4869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  .&gt; id                  f ( id ) &gt; g ( i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067280" y="501336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ملگر اولويت - گراف روابط اولويت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14" name=""/>
          <p:cNvGraphicFramePr/>
          <p:nvPr/>
        </p:nvGraphicFramePr>
        <p:xfrm>
          <a:off x="755640" y="1341360"/>
          <a:ext cx="4032360" cy="1622520"/>
        </p:xfrm>
        <a:graphic>
          <a:graphicData uri="http://schemas.openxmlformats.org/drawingml/2006/table">
            <a:tbl>
              <a:tblPr/>
              <a:tblGrid>
                <a:gridCol w="806400"/>
                <a:gridCol w="806400"/>
                <a:gridCol w="806400"/>
                <a:gridCol w="806400"/>
                <a:gridCol w="80676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5" name=""/>
          <p:cNvSpPr/>
          <p:nvPr/>
        </p:nvSpPr>
        <p:spPr>
          <a:xfrm>
            <a:off x="5292720" y="3716280"/>
            <a:ext cx="647640" cy="5047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380360" y="2997360"/>
            <a:ext cx="647640" cy="5029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5292720" y="4437000"/>
            <a:ext cx="647640" cy="5047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5292720" y="5157720"/>
            <a:ext cx="647640" cy="50328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292720" y="2997360"/>
            <a:ext cx="647640" cy="5047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7451640" y="5157720"/>
            <a:ext cx="647640" cy="50328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7380360" y="3716280"/>
            <a:ext cx="647640" cy="50472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451640" y="4437000"/>
            <a:ext cx="647640" cy="50328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5940360" y="3357720"/>
            <a:ext cx="1511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7740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7740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774072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65164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651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65164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5940360" y="4149720"/>
            <a:ext cx="1511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940360" y="3429000"/>
            <a:ext cx="15112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940360" y="4076640"/>
            <a:ext cx="15112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940360" y="4005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H="1">
            <a:off x="5940360" y="4724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8101080" y="3213000"/>
            <a:ext cx="431640" cy="2232000"/>
          </a:xfrm>
          <a:custGeom>
            <a:avLst/>
            <a:gdLst/>
            <a:ahLst/>
            <a:rect l="l" t="t" r="r" b="b"/>
            <a:pathLst>
              <a:path w="415" h="1406">
                <a:moveTo>
                  <a:pt x="0" y="0"/>
                </a:moveTo>
                <a:cubicBezTo>
                  <a:pt x="200" y="200"/>
                  <a:pt x="401" y="401"/>
                  <a:pt x="408" y="635"/>
                </a:cubicBezTo>
                <a:cubicBezTo>
                  <a:pt x="415" y="869"/>
                  <a:pt x="136" y="1202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4932360" y="3284640"/>
            <a:ext cx="287280" cy="2016000"/>
          </a:xfrm>
          <a:custGeom>
            <a:avLst/>
            <a:gdLst/>
            <a:ahLst/>
            <a:rect l="l" t="t" r="r" b="b"/>
            <a:pathLst>
              <a:path w="415" h="1406">
                <a:moveTo>
                  <a:pt x="0" y="0"/>
                </a:moveTo>
                <a:cubicBezTo>
                  <a:pt x="200" y="200"/>
                  <a:pt x="401" y="401"/>
                  <a:pt x="408" y="635"/>
                </a:cubicBezTo>
                <a:cubicBezTo>
                  <a:pt x="415" y="869"/>
                  <a:pt x="136" y="1202"/>
                  <a:pt x="45" y="1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14836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H="1">
            <a:off x="8100720" y="5229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4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عملگر اولويت- پوشش خط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227640" y="1916280"/>
            <a:ext cx="216072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واع خطا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796000" y="1197000"/>
            <a:ext cx="71280" cy="2087640"/>
          </a:xfrm>
          <a:custGeom>
            <a:avLst/>
            <a:gdLst>
              <a:gd name="textAreaLeft" fmla="*/ 0 w 71280"/>
              <a:gd name="textAreaRight" fmla="*/ 50040 w 712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755640" y="134136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وجود رابطه بين عنصر بالاي پشته و عنصر 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684360" y="2421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تطابق مجموعه عناصر پيمايش شده در پشته و آماده كاهش با هيچ كدام از قوانين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6300720" y="4292640"/>
            <a:ext cx="208764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وشش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796000" y="3645000"/>
            <a:ext cx="71280" cy="2087640"/>
          </a:xfrm>
          <a:custGeom>
            <a:avLst/>
            <a:gdLst>
              <a:gd name="textAreaLeft" fmla="*/ 0 w 71280"/>
              <a:gd name="textAreaRight" fmla="*/ 50040 w 712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900000" y="4149720"/>
            <a:ext cx="47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حالت اول: قرار گرفتن اشاره گرهايي به توابع  رفع خطا و فراخواني آنها هنگام وقوع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هاي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556000" y="141300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لايل پر طرفداربودن تجزيه كننده 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332000" y="2349360"/>
            <a:ext cx="525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بليت تشخيص ساختارهاي زبانهاي مستقل از مت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332000" y="3213000"/>
            <a:ext cx="525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ومي ترين روش تجزيه انتقال كاهش غير بازگش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332000" y="4076640"/>
            <a:ext cx="525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وانايي تجزيه رده گرامرهاي قابل تجزيه پيش گ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1332000" y="4941720"/>
            <a:ext cx="525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ريعترين تشخيص خطاي نحوي با پويش چپ به ر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نقاط ضعف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268360" y="2349360"/>
            <a:ext cx="4896000" cy="576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-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ر زياد در ساخت آن براي گرامر زبان بشكل دست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268360" y="3357720"/>
            <a:ext cx="4896000" cy="5760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نيازمند ابزار مولد تجزيه كنن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ايج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نواع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443640" y="1628640"/>
            <a:ext cx="2098800" cy="100836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اده 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6527880" y="2997360"/>
            <a:ext cx="2016000" cy="1008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تعارف ي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6599160" y="4437000"/>
            <a:ext cx="2016360" cy="1008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پيش ن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A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156360" y="1557360"/>
            <a:ext cx="71280" cy="115092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6156360" y="3068640"/>
            <a:ext cx="71280" cy="115092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156360" y="4581360"/>
            <a:ext cx="71280" cy="115128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2066760" y="1557360"/>
            <a:ext cx="380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ده ترين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مترين توان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059280" y="3070080"/>
            <a:ext cx="280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درتمند ت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نت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900000" y="44388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درت متوس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هزينه متوس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ار كم براي ايجاد و قابليت تجزيه اكثر گرام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2916000" y="206064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2987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H="1" flipV="1">
            <a:off x="2916360" y="4076280"/>
            <a:ext cx="1079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11280" y="3284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 متفاو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اجزاء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1" name=""/>
          <p:cNvGraphicFramePr/>
          <p:nvPr/>
        </p:nvGraphicFramePr>
        <p:xfrm>
          <a:off x="2843280" y="1413000"/>
          <a:ext cx="4176720" cy="614160"/>
        </p:xfrm>
        <a:graphic>
          <a:graphicData uri="http://schemas.openxmlformats.org/drawingml/2006/table">
            <a:tbl>
              <a:tblPr/>
              <a:tblGrid>
                <a:gridCol w="588960"/>
                <a:gridCol w="852480"/>
                <a:gridCol w="647640"/>
                <a:gridCol w="647640"/>
                <a:gridCol w="720720"/>
                <a:gridCol w="71928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2" name=""/>
          <p:cNvGraphicFramePr/>
          <p:nvPr/>
        </p:nvGraphicFramePr>
        <p:xfrm>
          <a:off x="898560" y="1771560"/>
          <a:ext cx="649080" cy="3721320"/>
        </p:xfrm>
        <a:graphic>
          <a:graphicData uri="http://schemas.openxmlformats.org/drawingml/2006/table">
            <a:tbl>
              <a:tblPr/>
              <a:tblGrid>
                <a:gridCol w="64908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3" name=""/>
          <p:cNvSpPr/>
          <p:nvPr/>
        </p:nvSpPr>
        <p:spPr>
          <a:xfrm>
            <a:off x="3635280" y="2565360"/>
            <a:ext cx="2016360" cy="9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نامه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1619280" y="2997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22920" y="2925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6515280" y="242100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7" name=""/>
          <p:cNvGraphicFramePr/>
          <p:nvPr/>
        </p:nvGraphicFramePr>
        <p:xfrm>
          <a:off x="3276720" y="4005360"/>
          <a:ext cx="2790720" cy="1822320"/>
        </p:xfrm>
        <a:graphic>
          <a:graphicData uri="http://schemas.openxmlformats.org/drawingml/2006/table">
            <a:tbl>
              <a:tblPr/>
              <a:tblGrid>
                <a:gridCol w="1396800"/>
                <a:gridCol w="139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8" name=""/>
          <p:cNvSpPr/>
          <p:nvPr/>
        </p:nvSpPr>
        <p:spPr>
          <a:xfrm>
            <a:off x="471636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219640" y="206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مراحل كامپايل - توليد كد مياني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2349360"/>
            <a:ext cx="3889440" cy="64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خواندن برنامه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4076640"/>
            <a:ext cx="58816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بديل به برنامه اي در زبان مياني مانند اسمب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صميم گيري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435640" y="1628640"/>
            <a:ext cx="302400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صميم گيري الگوريتم در هر لحظ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H="1" flipV="1">
            <a:off x="3995280" y="148392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4067280" y="2060640"/>
            <a:ext cx="12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1547640" y="213372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نصر بالاي پشت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340000" y="11970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 ورودي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7093080" y="3068640"/>
            <a:ext cx="115236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نصر 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5940000" y="33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611280" y="299736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 اي به شك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0X1s1X2s2….Xmsm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m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بالاي پشته قرار 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2268360" y="3284640"/>
            <a:ext cx="36720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2050920" y="3284640"/>
            <a:ext cx="15130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508720" y="508464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نماد گرا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771640" y="544500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حالت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516720" y="1628640"/>
            <a:ext cx="1727280" cy="865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جزاي جدول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H="1" flipV="1">
            <a:off x="5292720" y="1557360"/>
            <a:ext cx="10065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5363640" y="227664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03280" y="242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ابع عملكر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11280" y="134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ابع انتقال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( دريافت يك حالت و نماد و  توليد حالت جدي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042920" y="3500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[sm , ai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3059280" y="278136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4211640" y="566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جدول تجز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2" name=""/>
          <p:cNvGraphicFramePr/>
          <p:nvPr/>
        </p:nvGraphicFramePr>
        <p:xfrm>
          <a:off x="4140360" y="3789360"/>
          <a:ext cx="3009600" cy="1701720"/>
        </p:xfrm>
        <a:graphic>
          <a:graphicData uri="http://schemas.openxmlformats.org/drawingml/2006/table">
            <a:tbl>
              <a:tblPr/>
              <a:tblGrid>
                <a:gridCol w="1800000"/>
                <a:gridCol w="1209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o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1 a2 … 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3" name=""/>
          <p:cNvSpPr/>
          <p:nvPr/>
        </p:nvSpPr>
        <p:spPr>
          <a:xfrm>
            <a:off x="4572000" y="3789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4140360" y="45813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5796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4500720" y="4797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651640" y="4724280"/>
            <a:ext cx="217440" cy="217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2556000" y="3933720"/>
            <a:ext cx="3024000" cy="1463760"/>
          </a:xfrm>
          <a:custGeom>
            <a:avLst/>
            <a:gdLst/>
            <a:ahLst/>
            <a:rect l="l" t="t" r="r" b="b"/>
            <a:pathLst>
              <a:path w="1905" h="922">
                <a:moveTo>
                  <a:pt x="0" y="0"/>
                </a:moveTo>
                <a:cubicBezTo>
                  <a:pt x="0" y="355"/>
                  <a:pt x="0" y="710"/>
                  <a:pt x="317" y="816"/>
                </a:cubicBezTo>
                <a:cubicBezTo>
                  <a:pt x="634" y="922"/>
                  <a:pt x="1648" y="605"/>
                  <a:pt x="1905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5003640" y="494136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971640" y="1916280"/>
            <a:ext cx="7272360" cy="792000"/>
          </a:xfrm>
          <a:prstGeom prst="bevel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قادير مختلف موجود جدول برا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 [ sm ,ai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7524720" y="270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219640" y="270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203640" y="270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547640" y="270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588000" y="36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n =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2050920" y="35719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4140360" y="3571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rn=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26920" y="35719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6372360" y="450864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وي پشته قرار داده و بع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وي پشته مي ر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995640" y="4508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جام عمل كاهش با دستو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م 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124000" y="4508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ايان موفق 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826920" y="458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طاي نح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922320" y="270000"/>
            <a:ext cx="770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روال تجزيه 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84360" y="1700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قرار دادن رشته ورود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همراه علام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انتهاي آن در ميانگير ورود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8436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گذارد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پشته به عنوان اوليه حال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خواندن وارده جدول تجزيه برا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, $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84360" y="4437000"/>
            <a:ext cx="7632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جراي عمل در نظر گرفته شده در جد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hift , redu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c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روا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843280" y="12682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گر پپكربندي پشته در يك لحظه بصورت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24000" y="2997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ا خواند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ماد ورودي جاري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حالت بالاي پشته مراجعه به جدول و انجام يك مورد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2627280" y="450864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7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تبديل رشته روي پشته پس ا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صورت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611280" y="184464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X1 s1 X2 s2….Xm sm , ai ai+1 …. an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39640" y="3716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 ,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539640" y="5084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X1 s1 X2 s2…Xm sm ai s, ai+1…an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روا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08000" y="170028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تبديل رشته روي پشته پس ا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reduc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صور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11280" y="23493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0 X1 s1 X2 s2… Xm-r sm-r  A s , ai ai+1… an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1187280" y="3573360"/>
            <a:ext cx="71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9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علام پايان موفق تجزيه با ديد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c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جد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987640" y="472428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فراخواني رويه پوشش خطا با ديد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11280" y="1197000"/>
            <a:ext cx="1728720" cy="22334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 *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700360" y="198900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49236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673272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2700360" y="162864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2700360" y="1341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99564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50072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00364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58000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15636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723600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774072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6732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740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723600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615636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341964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3995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450072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580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003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059280" y="1989000"/>
            <a:ext cx="259236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49236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6732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5076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7236000" y="198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7740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58000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500720" y="2637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99564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615636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399564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15636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81200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99564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15636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4500720" y="292428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58000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7236000" y="3213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673272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507672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49236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781200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99564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4500720" y="3573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615636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58000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7236000" y="3860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07672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349236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651640" y="4508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3995640" y="4508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88508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07672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49236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99564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995640" y="486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651640" y="486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651640" y="515772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500720" y="515772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651640" y="551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500720" y="551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99564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500720" y="486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156360" y="486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615636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6156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492360" y="126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6372360" y="1268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708360" y="10526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تجزي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d * id + 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826920" y="1628640"/>
            <a:ext cx="727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3564000" y="1628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012000" y="1628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187280" y="126828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492360" y="126828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6300720" y="126828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جد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332000" y="1557360"/>
            <a:ext cx="388944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id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F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 *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 * 7 id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 * 7 F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 +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 + 6 id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 + 6 F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 + 6 T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348000" y="1628640"/>
            <a:ext cx="26640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 * 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id 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867280" y="2133720"/>
            <a:ext cx="24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6443640" y="1628640"/>
            <a:ext cx="309708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5-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 تفاوت گرامر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L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و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476360" y="2421000"/>
            <a:ext cx="6048360" cy="7189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وانايي تشخيص وقوع سمت راست يك رشته با ديدن تمام آنچه ك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ز آن سمت راست مشتق شده ، با استفاده ا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نماد پيش ن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6300720" y="1413000"/>
            <a:ext cx="180036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گرامر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LL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6516720" y="3573360"/>
            <a:ext cx="1800360" cy="72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گرامر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LR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547640" y="4724280"/>
            <a:ext cx="597708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وانايي تشخيص وقوع سمت راست تنها با ديدن او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نماد 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آنچه توسط سمت راست آن مشتق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219640" y="134136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يك قلم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508720" y="3213000"/>
            <a:ext cx="309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ثال اقلام مختلف قانون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1042920" y="3500280"/>
            <a:ext cx="1800360" cy="86544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042920" y="1341360"/>
            <a:ext cx="5113440" cy="144000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قلم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انوني از گرامر با يك نقطه 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كاني در سمت راست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995640" y="3645000"/>
            <a:ext cx="16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.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 .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Y 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Y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987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3924360" y="3573360"/>
            <a:ext cx="18000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راحل كامپايل - بهينه ساز كد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1916280"/>
            <a:ext cx="7078680" cy="977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هينه كردن كد مياني ( حذف متغيرهاي مياني غير ضرو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4149720"/>
            <a:ext cx="5400720" cy="9604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رعت بخشيدن به توليد كد نه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06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قسيم بندي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659640" y="1844640"/>
            <a:ext cx="158436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قلام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659640" y="4005360"/>
            <a:ext cx="1584360" cy="576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قلام غير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826920" y="1916280"/>
            <a:ext cx="54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شامل قلم اولي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 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و تمام اقلامي كه نقطه آنها در انتهاي چپ ني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1692360" y="4076640"/>
            <a:ext cx="45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قلامي كه نقطه در انتهاي چپ است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ايجاد قل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900000" y="1341360"/>
            <a:ext cx="1943280" cy="1511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564000" y="1628640"/>
            <a:ext cx="51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 تعيين يك نقطه شروع براي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843280" y="2205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4067280" y="2421000"/>
            <a:ext cx="216036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4067280" y="4365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 گذاردن نقطه در اولين مكان سمت راست قانو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3058920" y="4076640"/>
            <a:ext cx="93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755640" y="3645000"/>
            <a:ext cx="2160720" cy="201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.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Aa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Bb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ايجاد قل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692360" y="119700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 گذاردن نقطه در مكانهاي بعدي در سمت راست قانو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116000" y="1844640"/>
            <a:ext cx="7058160" cy="388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258920" y="2060640"/>
            <a:ext cx="216072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.a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.b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564000" y="2060640"/>
            <a:ext cx="216036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 .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 .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867280" y="2060640"/>
            <a:ext cx="216072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A 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B 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635280" y="4005360"/>
            <a:ext cx="2160720" cy="158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Ab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bB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476360" y="1844640"/>
            <a:ext cx="6408720" cy="100800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وه اقلا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(0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يا گرو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(0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تعارف فراهم كننده مبن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ساخت تجزيه كننده 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1476360" y="3789360"/>
            <a:ext cx="6335640" cy="1008000"/>
          </a:xfrm>
          <a:prstGeom prst="foldedCorner">
            <a:avLst>
              <a:gd name="adj" fmla="val 12500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خت به وسيله دو تاب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مراه گرامر افزو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464328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948360" y="2997360"/>
            <a:ext cx="1656000" cy="863280"/>
          </a:xfrm>
          <a:prstGeom prst="ellipse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اب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6659640" y="1989000"/>
            <a:ext cx="216000" cy="3024360"/>
          </a:xfrm>
          <a:custGeom>
            <a:avLst/>
            <a:gdLst>
              <a:gd name="textAreaLeft" fmla="*/ 0 w 216000"/>
              <a:gd name="textAreaRight" fmla="*/ 78120 w 21600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11280" y="2133720"/>
            <a:ext cx="5976720" cy="122400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ضافه شدن هر قلم موجود در مجموعه اقلا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ه مجموع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611280" y="3573360"/>
            <a:ext cx="5976720" cy="129564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ضافه شدن قل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 .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صورت وجو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 M .B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وجود قانون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Roya"/>
              </a:rPr>
              <a:t> 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گرامر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55640" y="1484280"/>
            <a:ext cx="180036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539640" y="3716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ure (I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3492360" y="1413000"/>
            <a:ext cx="460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يك گروه قلم داده شد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 ={ [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.E]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492360" y="2565360"/>
            <a:ext cx="71640" cy="3024360"/>
          </a:xfrm>
          <a:custGeom>
            <a:avLst/>
            <a:gdLst>
              <a:gd name="textAreaLeft" fmla="*/ 20880 w 71640"/>
              <a:gd name="textAreaRight" fmla="*/ 72000 w 71640"/>
              <a:gd name="textAreaTop" fmla="*/ 126000 h 3024360"/>
              <a:gd name="textAreaBottom" fmla="*/ 289836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924360" y="2492280"/>
            <a:ext cx="345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E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T *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قلام معتب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042920" y="2060640"/>
            <a:ext cx="705816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ك قلم به صور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B1.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پيشوند قابل وقو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MB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عتبر است اگ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1403280" y="3500280"/>
            <a:ext cx="6696000" cy="115092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شتقاقي به صور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M A W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 M B1B2 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جود داشته 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4498920" y="3643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3203640" y="3643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قلام معتب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55640" y="1197000"/>
            <a:ext cx="180036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3059280" y="191628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پيشوند قابل وقوع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6300720" y="1771560"/>
            <a:ext cx="136836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E + 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4427640" y="313992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ه پس از خواندن آن رفتن به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203640" y="3859200"/>
            <a:ext cx="1871640" cy="1368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3203640" y="43624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3708360" y="3860640"/>
            <a:ext cx="165744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508720" y="22035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219640" y="357192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2482920" y="47228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4437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قلام معتبر بر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684000" y="3645000"/>
            <a:ext cx="215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900000" y="2565000"/>
            <a:ext cx="504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219640" y="1844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435640" y="386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2484360" y="4363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2556000" y="2852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877080" y="2924280"/>
            <a:ext cx="1871640" cy="1224000"/>
          </a:xfrm>
          <a:prstGeom prst="ellipse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اب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oto(I , 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6443640" y="1628640"/>
            <a:ext cx="289080" cy="3816360"/>
          </a:xfrm>
          <a:custGeom>
            <a:avLst/>
            <a:gdLst>
              <a:gd name="textAreaLeft" fmla="*/ 0 w 289080"/>
              <a:gd name="textAreaRight" fmla="*/ 104400 w 2890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68360" y="1916280"/>
            <a:ext cx="5975280" cy="107928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 روي مجموع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 X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شرط وجو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[ Q . X K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68360" y="3716280"/>
            <a:ext cx="5975280" cy="129528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اي از اقلام معتبر براي پيشوند قابل وقو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R 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جود مجموعه اقلام معتبر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556000" y="306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 flipH="1">
            <a:off x="7451640" y="3789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8244000" y="3789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6877080" y="465300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جموعه اقل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7812000" y="4653000"/>
            <a:ext cx="8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ماد گرا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843280" y="1413000"/>
            <a:ext cx="5759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گروه قلم داده شد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 ={ [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E.] , [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`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. + T] 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39640" y="3716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 (I , +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3492360" y="2565360"/>
            <a:ext cx="71640" cy="3024360"/>
          </a:xfrm>
          <a:custGeom>
            <a:avLst/>
            <a:gdLst>
              <a:gd name="textAreaLeft" fmla="*/ 20880 w 71640"/>
              <a:gd name="textAreaRight" fmla="*/ 72000 w 71640"/>
              <a:gd name="textAreaTop" fmla="*/ 126000 h 3024360"/>
              <a:gd name="textAreaBottom" fmla="*/ 289836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3851280" y="2852640"/>
            <a:ext cx="3457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.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T *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755640" y="1484280"/>
            <a:ext cx="180036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شناسنامه منبع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4400" y="1044720"/>
            <a:ext cx="3495960" cy="5048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11640" y="1628640"/>
            <a:ext cx="453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Titr"/>
              </a:rPr>
              <a:t>عنوان منبع: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Roya"/>
              </a:rPr>
              <a:t> کامپايلرها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Titr"/>
              </a:rPr>
              <a:t>مترجم: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Roya"/>
              </a:rPr>
              <a:t> دلداري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Titr"/>
              </a:rPr>
              <a:t>انتشارات: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Roya"/>
              </a:rPr>
              <a:t> باغاني (خراسان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Titr"/>
              </a:rPr>
              <a:t>منبع اصلي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Roya"/>
              </a:rPr>
              <a:t>Compiler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Principles, Techniques, and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راحل كامپايل - توليد كننده كد نهاي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1628640"/>
            <a:ext cx="588312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بديل كد مياني بهينه به كد جابجاپذير يا اسمب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44480" y="3213000"/>
            <a:ext cx="583272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يين مكانهاي حافظه براي متغيرهاي برنا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44480" y="4724280"/>
            <a:ext cx="583272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نتساب متغيرها به ثبات هاي ماش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007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00720" y="4149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گروه اقلام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(0)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1116000" y="1700280"/>
            <a:ext cx="6985080" cy="649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گذارد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osure  { [ S`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.S ]}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گرو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1116000" y="2708280"/>
            <a:ext cx="6985080" cy="64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مجموعه اقلا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هر نماد 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نجام بد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116000" y="3716280"/>
            <a:ext cx="619272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هي نيست و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يست انجام بد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1116000" y="4653000"/>
            <a:ext cx="4824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1-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ا به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ضافه ك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 flipV="1">
            <a:off x="7740720" y="335772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6012000" y="49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796000" y="5157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عقبگرد، تا زماني كه هيچ مجموعه باي اضافه شدن نمان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68360" y="198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39640" y="48690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132000" y="126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204360" y="2205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1116000" y="981000"/>
            <a:ext cx="2016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116000" y="4724280"/>
            <a:ext cx="1513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780000" y="1125360"/>
            <a:ext cx="1439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780000" y="2205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059280" y="4221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780000" y="2924280"/>
            <a:ext cx="1800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.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6156360" y="4149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6804000" y="414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6516720" y="1413000"/>
            <a:ext cx="1800360" cy="1296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95280" y="1700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95280" y="47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971640" y="1125360"/>
            <a:ext cx="13669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971640" y="4365720"/>
            <a:ext cx="165744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2556000" y="17715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4572000" y="3645000"/>
            <a:ext cx="331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203640" y="1628640"/>
            <a:ext cx="1655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2556000" y="32115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203640" y="3139920"/>
            <a:ext cx="2305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2484360" y="4724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276720" y="4724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364000" y="3860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227640" y="3860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6012000" y="1484280"/>
            <a:ext cx="180000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11280" y="1197000"/>
            <a:ext cx="2449440" cy="172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=R \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* R \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539640" y="335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11280" y="4076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11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3709080" y="1413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3564000" y="249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56400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492360" y="486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580000" y="1413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580000" y="249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558000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11600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1116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1116000" y="486900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4140360" y="1413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140360" y="249228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140360" y="3716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067280" y="486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6084720" y="1413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156360" y="2421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156360" y="3573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84360" y="1197000"/>
            <a:ext cx="7704000" cy="86364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يجاد گروه مجموعه هاي اقلام براي گرامر افزود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( با يك نقطه شروع مانن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صور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C = { I0 , I1 ,…In }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84360" y="2205000"/>
            <a:ext cx="7704000" cy="86364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ساختن حال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( مانند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)، تعيين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هاي تجزيه براي حال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صورت زي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2411280" y="3284640"/>
            <a:ext cx="5905800" cy="72072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ف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tion [i , a] = shift 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Q .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Style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oto (Ii , a )=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2411280" y="4149720"/>
            <a:ext cx="5905800" cy="72072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- قرار گرفت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tion [i , a] = reduce A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Q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تم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پايانه ه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Follow (A =S`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.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flipH="1">
            <a:off x="6300360" y="4510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2411280" y="5013360"/>
            <a:ext cx="5905800" cy="72072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- قرار گرفت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tion [i , $] =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.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6227640" y="43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6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042920" y="1484280"/>
            <a:ext cx="7274160" cy="100800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- ايجاد تغيير حالتها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حال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براي تمام غير پايانه ها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ا استفا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ز قانون :  ا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goto ( Ii , 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آنگا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goto ( I , A ) = j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042920" y="2781360"/>
            <a:ext cx="7274160" cy="93672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Roya"/>
              </a:rPr>
              <a:t>–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گذارد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اي تمام ورودي هاي تعريف نشده با قوان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لگوريت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116000" y="3933720"/>
            <a:ext cx="7201080" cy="1008000"/>
          </a:xfrm>
          <a:prstGeom prst="bevel">
            <a:avLst>
              <a:gd name="adj" fmla="val 6616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- ايجاد حالت اوليه تجزيه كننده با استفاده از مجموعه اقلام حاو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.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700360" y="206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348000" y="1052640"/>
            <a:ext cx="2016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7451640" y="14842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4500720" y="33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5148360" y="314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0 , ( ] = shif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148360" y="35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0 , id] = shif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50072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932360" y="21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4716360" y="1125360"/>
            <a:ext cx="71640" cy="1943280"/>
          </a:xfrm>
          <a:custGeom>
            <a:avLst/>
            <a:gdLst>
              <a:gd name="textAreaLeft" fmla="*/ 0 w 71640"/>
              <a:gd name="textAreaRight" fmla="*/ 50400 w 71640"/>
              <a:gd name="textAreaTop" fmla="*/ 80640 h 1943280"/>
              <a:gd name="textAreaBottom" fmla="*/ 186264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292720" y="191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no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539640" y="48690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116000" y="4724280"/>
            <a:ext cx="1513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.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7524720" y="47242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411280" y="49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2411280" y="537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916360" y="51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1 , + ] = shif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2916360" y="47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1, $ ] =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684360" y="1341360"/>
            <a:ext cx="180000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T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* F \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)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"/>
          <p:cNvSpPr/>
          <p:nvPr/>
        </p:nvSpPr>
        <p:spPr>
          <a:xfrm>
            <a:off x="7524720" y="177336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S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924360" y="177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Follow (E)</a:t>
            </a: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 = { $ , +, )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3419640" y="3141720"/>
            <a:ext cx="42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2 , $ ] = action [ 2 , + ]=action [ 2 , ) ] = reduce E   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348000" y="3860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8f47"/>
                </a:solidFill>
                <a:latin typeface="Arial"/>
              </a:rPr>
              <a:t>action [ 2 , * ] = shif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1044720" y="357192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692360" y="3429000"/>
            <a:ext cx="1439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.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2987640" y="198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2556000" y="350172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3419640" y="3141720"/>
            <a:ext cx="72720" cy="718920"/>
          </a:xfrm>
          <a:custGeom>
            <a:avLst/>
            <a:gdLst>
              <a:gd name="textAreaLeft" fmla="*/ 46440 w 72720"/>
              <a:gd name="textAreaRight" fmla="*/ 73080 w 727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2916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 flipH="1">
            <a:off x="298728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7164360" y="4221000"/>
            <a:ext cx="129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508720" y="486900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دامه مراحل مطابق نمونه ها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تعريف قل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340000" y="1844640"/>
            <a:ext cx="5832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6300720" y="1484280"/>
            <a:ext cx="223200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A     Q.K , 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6877080" y="184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826920" y="2276640"/>
            <a:ext cx="51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شكل عمومي يك قلم ك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Q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يك قانون در گرامر و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يك پايانه يا علامت انتهاي سمت راست رشته ورود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($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900000" y="2133720"/>
            <a:ext cx="5184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971640" y="465300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م كاهش ب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زمان مشاه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عنوان نماد ورودي ب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6372360" y="3789360"/>
            <a:ext cx="201600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gency FB"/>
                <a:cs typeface="Roya"/>
              </a:rPr>
              <a:t>عملك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900000" y="4437000"/>
            <a:ext cx="511200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پيشوند قابل وقوع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692360" y="1341360"/>
            <a:ext cx="6767280" cy="647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شرايط  قلم معتب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Q.K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 يك پيشوند قابل وقو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4859280" y="3357720"/>
            <a:ext cx="71640" cy="1728720"/>
          </a:xfrm>
          <a:custGeom>
            <a:avLst/>
            <a:gdLst>
              <a:gd name="textAreaLeft" fmla="*/ 0 w 71640"/>
              <a:gd name="textAreaRight" fmla="*/ 25920 w 716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627280" y="2492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وجود اشتقاق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amp;AW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 &amp;QKW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كه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564000" y="35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&amp;Q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 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826920" y="414972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ولين نماد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بر تهي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بر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500720" y="2349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3492360" y="234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راحل كامپايل - مديريت جدول نماد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236000" y="1125360"/>
            <a:ext cx="12808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3366"/>
                </a:solidFill>
                <a:latin typeface="Arial"/>
                <a:cs typeface="Roya"/>
              </a:rPr>
              <a:t>تعري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916280"/>
            <a:ext cx="85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Zar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مان داده اي شامل ركورد براي شناسه و ميدانهايي برا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صفات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Roya"/>
              </a:rPr>
              <a:t>أ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0000" y="3141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3366"/>
                </a:solidFill>
                <a:latin typeface="Arial"/>
                <a:cs typeface="Roya"/>
              </a:rPr>
              <a:t>هد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005360"/>
            <a:ext cx="6119640" cy="115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فراهم كردن شناسايي سريع ركورد شناسه بمنظو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ذخيره و بازيابي داده ها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LR(1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1547640" y="2133720"/>
            <a:ext cx="6193080" cy="72072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قلم مث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BK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نجام بده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900000" y="3286080"/>
            <a:ext cx="6697800" cy="79236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اي قانونهاي 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گرامر و هر پايانه 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First (K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900000" y="4510080"/>
            <a:ext cx="6337440" cy="71928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 قل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.y ,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نيست آنرا اضافه ك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7308720" y="2925720"/>
            <a:ext cx="1032120" cy="2016000"/>
          </a:xfrm>
          <a:custGeom>
            <a:avLst/>
            <a:gdLst/>
            <a:ahLst/>
            <a:rect l="l" t="t" r="r" b="b"/>
            <a:pathLst>
              <a:path w="741" h="1543">
                <a:moveTo>
                  <a:pt x="0" y="1543"/>
                </a:moveTo>
                <a:cubicBezTo>
                  <a:pt x="310" y="1354"/>
                  <a:pt x="621" y="1165"/>
                  <a:pt x="681" y="908"/>
                </a:cubicBezTo>
                <a:cubicBezTo>
                  <a:pt x="741" y="651"/>
                  <a:pt x="552" y="325"/>
                  <a:pt x="3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 flipH="1" flipV="1">
            <a:off x="7740720" y="278280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6516720" y="5446800"/>
            <a:ext cx="19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گشت به مرحل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گر قلمي باقيما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6588000" y="1125360"/>
            <a:ext cx="208944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حاسب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659640" y="1628640"/>
            <a:ext cx="172872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gency FB"/>
                <a:cs typeface="Roya"/>
              </a:rPr>
              <a:t>محاسبه 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  <a:ea typeface="Roya"/>
              </a:rPr>
              <a:t>g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684360" y="2708280"/>
            <a:ext cx="7272360" cy="79380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ا مساوي مجموعه قلمه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X.K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كه در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وجودند، در نظر بگ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684360" y="4149720"/>
            <a:ext cx="6767280" cy="720720"/>
          </a:xfrm>
          <a:prstGeom prst="roundRect">
            <a:avLst>
              <a:gd name="adj" fmla="val 16667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osure ( J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ا برگرد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516720" y="1341360"/>
            <a:ext cx="201600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محاس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(G`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971640" y="2276640"/>
            <a:ext cx="6119640" cy="645840"/>
          </a:xfrm>
          <a:prstGeom prst="bevel">
            <a:avLst>
              <a:gd name="adj" fmla="val 6435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= { closure ( { 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.S , $ }) }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قرار ده و تكرار ك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971640" y="3068640"/>
            <a:ext cx="6121440" cy="646200"/>
          </a:xfrm>
          <a:prstGeom prst="bevel">
            <a:avLst>
              <a:gd name="adj" fmla="val 6435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اي هر مجموعه از اقلا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هر نماد گرامر 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971640" y="3860640"/>
            <a:ext cx="6119640" cy="648000"/>
          </a:xfrm>
          <a:prstGeom prst="bevel">
            <a:avLst>
              <a:gd name="adj" fmla="val 6435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تهي نبوده و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نيست انجام بد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971640" y="4581360"/>
            <a:ext cx="6121440" cy="646200"/>
          </a:xfrm>
          <a:prstGeom prst="bevel">
            <a:avLst>
              <a:gd name="adj" fmla="val 6435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ا 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ضافه ك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7093080" y="486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 flipV="1">
            <a:off x="7956720" y="2492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7092720" y="2492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7164360" y="5013360"/>
            <a:ext cx="10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گشت اگر قلمي باقيما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55640" y="1197000"/>
            <a:ext cx="1584360" cy="1224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 \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1258920" y="2852640"/>
            <a:ext cx="22320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S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249120" y="3357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252360" y="5229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1258920" y="5229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.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205080" y="2421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3995640" y="2133720"/>
            <a:ext cx="172872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.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3203640" y="47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995640" y="4292640"/>
            <a:ext cx="223200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.C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5724360" y="2924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6804000" y="2924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.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601200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6407280" y="3860640"/>
            <a:ext cx="273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804000" y="4149720"/>
            <a:ext cx="21607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.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068720" y="191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611280" y="450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684360" y="32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147636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.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476360" y="450864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. , c \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4932360" y="19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.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3851280" y="429264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خاتمه كار بدليل نتيجه ندادن ساير اقلا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684360" y="191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8f47"/>
                </a:solidFill>
                <a:latin typeface="Arial"/>
              </a:rPr>
              <a:t>I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1476360" y="1484280"/>
            <a:ext cx="208764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.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ايجاد مجموع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332000" y="119700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203640" y="1197000"/>
            <a:ext cx="720720" cy="5745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3203640" y="4653000"/>
            <a:ext cx="720720" cy="5745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203640" y="1916280"/>
            <a:ext cx="718920" cy="5745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3203640" y="5445000"/>
            <a:ext cx="720720" cy="574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5364000" y="306864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5364000" y="1916280"/>
            <a:ext cx="720720" cy="576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364000" y="386064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5364000" y="465300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7164360" y="3068640"/>
            <a:ext cx="72072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2050920" y="1484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692360" y="177336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154764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1692360" y="2205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1692360" y="4941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1692360" y="5732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3924360" y="22035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635280" y="2492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3635280" y="3357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3635280" y="4149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3924360" y="494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6084720" y="33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rot="16427400">
            <a:off x="5480640" y="2592720"/>
            <a:ext cx="660600" cy="604800"/>
          </a:xfrm>
          <a:custGeom>
            <a:avLst/>
            <a:gdLst/>
            <a:ahLst/>
            <a:rect l="l" t="t" r="r" b="b"/>
            <a:pathLst>
              <a:path w="416" h="362">
                <a:moveTo>
                  <a:pt x="45" y="0"/>
                </a:moveTo>
                <a:cubicBezTo>
                  <a:pt x="230" y="83"/>
                  <a:pt x="416" y="166"/>
                  <a:pt x="408" y="226"/>
                </a:cubicBezTo>
                <a:cubicBezTo>
                  <a:pt x="400" y="286"/>
                  <a:pt x="200" y="324"/>
                  <a:pt x="0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rot="16427400">
            <a:off x="3355920" y="4213080"/>
            <a:ext cx="588960" cy="604800"/>
          </a:xfrm>
          <a:custGeom>
            <a:avLst/>
            <a:gdLst/>
            <a:ahLst/>
            <a:rect l="l" t="t" r="r" b="b"/>
            <a:pathLst>
              <a:path w="416" h="362">
                <a:moveTo>
                  <a:pt x="45" y="0"/>
                </a:moveTo>
                <a:cubicBezTo>
                  <a:pt x="230" y="83"/>
                  <a:pt x="416" y="166"/>
                  <a:pt x="408" y="226"/>
                </a:cubicBezTo>
                <a:cubicBezTo>
                  <a:pt x="400" y="286"/>
                  <a:pt x="200" y="324"/>
                  <a:pt x="0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2340000" y="112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2268360" y="184464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450072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637236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442764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2268360" y="458136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5292720" y="26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442764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203640" y="42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724360" y="35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3635280" y="51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2268360" y="537372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572436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35640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442764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6084720" y="1268280"/>
            <a:ext cx="25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گرا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مثا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900000" y="1268280"/>
            <a:ext cx="7559640" cy="720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ساخت گروه مجموعه هاي اقلام به صور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 = { I0 , I1 , …, In}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900000" y="2205000"/>
            <a:ext cx="7559640" cy="720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يجاد حال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ز تجزيه كننده با استفاده ا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مقداردهي بخ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صورت زي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1116000" y="3284640"/>
            <a:ext cx="7056360" cy="1081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ف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 [ I , a ] = shift 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aK ,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(Ii , a) = 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1116000" y="4653000"/>
            <a:ext cx="7056360" cy="1081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ب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reduce A    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action [ I , a 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=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صورت وجو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=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694836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116000" y="1628640"/>
            <a:ext cx="7128000" cy="505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 [ i , $]= accept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. , $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1116000" y="2708280"/>
            <a:ext cx="7128000" cy="5065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a) = 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i , A ) = 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1116000" y="3716280"/>
            <a:ext cx="712800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قرار گرفت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err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راي تمام ورودي هاي تعريف نشده با قوان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لگوريت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116000" y="4797360"/>
            <a:ext cx="7056360" cy="936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gency FB"/>
                <a:cs typeface="Roya"/>
              </a:rPr>
              <a:t>قرار دادن حالت اوليه تجزيه كننده مساوي حالت بدست آمده 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gency FB"/>
                <a:ea typeface="Roya"/>
              </a:rPr>
              <a:t> مجموعه حاوي 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Roya"/>
              </a:rPr>
              <a:t> .S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Roya"/>
              </a:rPr>
              <a:t> , $]</a:t>
            </a:r>
            <a:r>
              <a:rPr b="1" lang="fa-IR" sz="2000" spc="-1" strike="noStrike">
                <a:solidFill>
                  <a:srgbClr val="000000"/>
                </a:solidFill>
                <a:latin typeface="Agency FB"/>
                <a:ea typeface="Roy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C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755640" y="1413000"/>
            <a:ext cx="1584360" cy="1224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 \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2843280" y="1989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3492360" y="1341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6732720" y="1341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2843280" y="162864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2843280" y="1341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457200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565164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723600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7740720" y="162864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6732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723600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6012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059280" y="1989000"/>
            <a:ext cx="259236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70836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6732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7236000" y="198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94036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940360" y="4149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7236000" y="292428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478800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70836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370836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594036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478800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3492360" y="126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6084720" y="126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7236000" y="2637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7236000" y="3860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485928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378000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478800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370836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478800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370836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478800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4716360" y="450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3708360" y="4508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94036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332000" y="1341360"/>
            <a:ext cx="655308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يجاد گروه مجموعه هاي اقلام بصور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= { I0 , I1 , … I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1332000" y="2276640"/>
            <a:ext cx="6553080" cy="5778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پيدا كردن تمام مجموعه هايي با قلم هسته يكسان در بين قلمهاي موج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1332000" y="3213000"/>
            <a:ext cx="6553080" cy="792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يجاد مجموعه نتايج اقلام موجود بصور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= { J0 , J1 , …J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محاسبه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1258920" y="4365720"/>
            <a:ext cx="6769080" cy="1081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ف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 [ I , a ] = shift 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aK ,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(Ii , a) = 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684720" y="277920"/>
            <a:ext cx="93711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 مراحل كامپايل: عبار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:= Pos + Rate * 50</a:t>
            </a:r>
            <a:endParaRPr b="1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2682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:= Pos + Rate *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1557360"/>
            <a:ext cx="1152360" cy="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11253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حليل گر لغ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557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:= id2+ id3 *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59640" y="1844640"/>
            <a:ext cx="792000" cy="50472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3600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96360" y="3933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8036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85080" y="27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8508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12000" y="2637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01080" y="3141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8360" y="364500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740360" y="3141720"/>
            <a:ext cx="1429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451280" y="2637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8100720" y="35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029200">
            <a:off x="6178680" y="1524600"/>
            <a:ext cx="17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حليل گر نح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3357720"/>
            <a:ext cx="792000" cy="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76720" y="3860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600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16360" y="2278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1440" y="2782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927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6384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08720" y="314316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357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148000" y="306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787640" y="2638440"/>
            <a:ext cx="142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79640" y="3573360"/>
            <a:ext cx="7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84720" y="407664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3716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96000" y="285264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حليل معناي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203280" y="2924280"/>
            <a:ext cx="1152360" cy="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2133720"/>
            <a:ext cx="216072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1:=into real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2:=id3 * te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3:= id2 + te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1:= te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492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وليد كد ميا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42920" y="3284640"/>
            <a:ext cx="0" cy="43344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3716280"/>
            <a:ext cx="187164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1:= id3 * 5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1:= id2 + te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328464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بهينه س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27280" y="4437000"/>
            <a:ext cx="719280" cy="504720"/>
          </a:xfrm>
          <a:prstGeom prst="line">
            <a:avLst/>
          </a:prstGeom>
          <a:ln w="28440">
            <a:solidFill>
              <a:srgbClr val="84824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32000" y="5084640"/>
            <a:ext cx="316872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  id,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  50.0 ,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  R1, i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290800">
            <a:off x="2244600" y="4116600"/>
            <a:ext cx="152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848240"/>
                </a:solidFill>
                <a:latin typeface="Arial"/>
                <a:cs typeface="Roya"/>
              </a:rPr>
              <a:t>توليد كد نهاي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4000" y="51577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  id2 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4360" y="544500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  R2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40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116000" y="1341360"/>
            <a:ext cx="7054920" cy="1081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  ب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reduce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action [ I , a 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=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رصورت وجو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Q.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=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116000" y="2637000"/>
            <a:ext cx="6985080" cy="576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ction [ i , $]= accept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صورت وجو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. , $]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2268360" y="3500280"/>
            <a:ext cx="4248360" cy="792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ساخت جداو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صورت زي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1042920" y="4581360"/>
            <a:ext cx="7201080" cy="12258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ف ا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جتماع يك يا چند مجموعه اقلام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0 I1…I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) باشد، آنگاه قلمهاي هس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1,X), goto (I2,X),…goto (Ik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شابه هستن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403280" y="1700280"/>
            <a:ext cx="6840720" cy="129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جتماع تمام مجموعه اقلام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0 I1…Ik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) باشد كه دراي قلمهاي هست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انن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(I1, X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هستند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J,X)=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55640" y="1413000"/>
            <a:ext cx="1584360" cy="1224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C \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2916360" y="1844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دغام مجموعه هاي اقلام و جايگزين شدن با اجتماعش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1187280" y="3357720"/>
            <a:ext cx="158436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3 , I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900000" y="4437000"/>
            <a:ext cx="251964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.C , c 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cC, c 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d , c 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708360" y="3357720"/>
            <a:ext cx="151308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4 , I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564000" y="44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. , c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6156360" y="3357720"/>
            <a:ext cx="151272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8 , I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6012000" y="4437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. , c \ d \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122560" y="227808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2771640" y="1630440"/>
            <a:ext cx="0" cy="36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012000" y="1630440"/>
            <a:ext cx="0" cy="36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2122560" y="191772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2122560" y="163044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3852720" y="191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930920" y="191772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6516720" y="191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7020000" y="191772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6012000" y="191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6515280" y="191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5291280" y="191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2266920" y="2422440"/>
            <a:ext cx="2592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2987640" y="24224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6012000" y="24224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6515280" y="24224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5219640" y="2781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5219640" y="38624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6443640" y="35020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067280" y="35020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2987640" y="35020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5219640" y="42228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4067280" y="38624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2771640" y="1557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5364000" y="1557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6515280" y="314172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4138560" y="191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3059280" y="191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4067280" y="24224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2914560" y="32130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4067280" y="3213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2987640" y="38624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3995640" y="4581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2987640" y="4581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5219640" y="4581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پوشش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و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076720" y="1268280"/>
            <a:ext cx="3456000" cy="57636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خورد با خطا در تجزي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5219640" y="21337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 داراي خط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971640" y="1557360"/>
            <a:ext cx="2305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3 c 3 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332000" y="2708280"/>
            <a:ext cx="1439640" cy="719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2050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2843280" y="306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5" name=""/>
          <p:cNvGraphicFramePr/>
          <p:nvPr/>
        </p:nvGraphicFramePr>
        <p:xfrm>
          <a:off x="3924360" y="2565360"/>
          <a:ext cx="2144520" cy="1284480"/>
        </p:xfrm>
        <a:graphic>
          <a:graphicData uri="http://schemas.openxmlformats.org/drawingml/2006/table">
            <a:tbl>
              <a:tblPr/>
              <a:tblGrid>
                <a:gridCol w="1073160"/>
                <a:gridCol w="1071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[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, $ ]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6" name=""/>
          <p:cNvSpPr/>
          <p:nvPr/>
        </p:nvSpPr>
        <p:spPr>
          <a:xfrm>
            <a:off x="4932360" y="3213000"/>
            <a:ext cx="2160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5580000" y="4292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آشكارسازي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1187280" y="501336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شخيص خطا در يك مرح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"/>
          <p:cNvSpPr/>
          <p:nvPr/>
        </p:nvSpPr>
        <p:spPr>
          <a:xfrm>
            <a:off x="5148360" y="1197000"/>
            <a:ext cx="3456000" cy="576360"/>
          </a:xfrm>
          <a:prstGeom prst="rect">
            <a:avLst/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خورد با خطا در تجزي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ALR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پوشش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و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364000" y="198900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 داراي خط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c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755640" y="1341360"/>
            <a:ext cx="2305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36 c 36 d 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116000" y="2276640"/>
            <a:ext cx="1008000" cy="7189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183528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2124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6" name=""/>
          <p:cNvGraphicFramePr/>
          <p:nvPr/>
        </p:nvGraphicFramePr>
        <p:xfrm>
          <a:off x="2556000" y="2060640"/>
          <a:ext cx="2160360" cy="152856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g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[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4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,$]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r3 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[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8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,$]=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r2  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 cC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7" name=""/>
          <p:cNvSpPr/>
          <p:nvPr/>
        </p:nvSpPr>
        <p:spPr>
          <a:xfrm>
            <a:off x="3490920" y="27795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291280" y="2563920"/>
            <a:ext cx="230508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36 c 36 C 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H="1">
            <a:off x="3490920" y="2924280"/>
            <a:ext cx="172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3564000" y="335592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5292720" y="3500280"/>
            <a:ext cx="2305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36 C 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4643280" y="41497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2411280" y="4149720"/>
            <a:ext cx="2305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C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4716360" y="393372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212400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-324000" y="422100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آشكارسازي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1042920" y="5229360"/>
            <a:ext cx="7056360" cy="576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شخيص خطا پس از چند كاه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ساخت جدول تجزيه بهين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924360" y="1341360"/>
            <a:ext cx="460836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Book Antiqua"/>
                <a:cs typeface="Roya"/>
              </a:rPr>
              <a:t>چند اصلاح در الگوريتم ساخت جدول تجزيه</a:t>
            </a:r>
            <a:r>
              <a:rPr b="1" lang="fa-IR" sz="2400" spc="-1" strike="noStrike">
                <a:solidFill>
                  <a:srgbClr val="000000"/>
                </a:solidFill>
                <a:latin typeface="Book Antiqua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7667640" y="2205000"/>
            <a:ext cx="73080" cy="3456000"/>
          </a:xfrm>
          <a:custGeom>
            <a:avLst/>
            <a:gdLst>
              <a:gd name="textAreaLeft" fmla="*/ 0 w 73080"/>
              <a:gd name="textAreaRight" fmla="*/ 26280 w 7308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1476360" y="24922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شان دادن مجموعه اي از اقلا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هسته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1258920" y="3645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دست آوردن بخش تاب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تنها بوسيله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684360" y="479736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حوه محاسبه تغيير  حالت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استفاده از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تعيين پيش نگر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187280" y="371628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M.XN ,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نبوده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= #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1187280" y="278136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J` := closure ({[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y.v , #]}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1187280" y="184464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براي هر قلم مانن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y.V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هسته ي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نجام بد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1187280" y="4724280"/>
            <a:ext cx="7056720" cy="5763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 نماد پيش نگ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 قل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X.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 ( I ,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تعيين پيش نگر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547640" y="1989000"/>
            <a:ext cx="6697800" cy="1727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-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M.X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, #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`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يست، پيش نگر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y.v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مجموع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MX.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( I , X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نتش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مي ياب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1835280" y="1413000"/>
            <a:ext cx="5327640" cy="64908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ساختن هسته اقلام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LR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330033"/>
                </a:solidFill>
                <a:latin typeface="Arial"/>
                <a:ea typeface="Roya"/>
              </a:rPr>
              <a:t> بخش تجزيه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LR</a:t>
            </a:r>
            <a:r>
              <a:rPr b="1" lang="fa-IR" sz="2400" spc="-1" strike="noStrike">
                <a:solidFill>
                  <a:srgbClr val="330033"/>
                </a:solidFill>
                <a:latin typeface="Arial"/>
                <a:ea typeface="Roya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1619280" y="2349360"/>
            <a:ext cx="5689440" cy="86544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اجراي الگوريتم تعيين پيش نگر بر روي هسته 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از اقلا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نماد گرا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1619280" y="3573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تشكيل و مقداردهي جدول معين كننده پيش نگ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كه براي هر قلم هسته در هر مجموعه اقلا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1763640" y="4869000"/>
            <a:ext cx="5327640" cy="64908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تكرار چند گذر بر روي هر مجموعه اق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بزارهاي ساخت كامپايل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628640"/>
            <a:ext cx="7775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مولدهاي تجزيه كنن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توليد كننده هاي پويش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موتورهاي ترجمه نحوگ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مولدهاي كد خودك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موتورهاي جريان د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1692360" y="1341360"/>
            <a:ext cx="6119640" cy="1295640"/>
          </a:xfrm>
          <a:custGeom>
            <a:avLst/>
            <a:gdLst>
              <a:gd name="textAreaLeft" fmla="*/ 0 w 6119640"/>
              <a:gd name="textAreaRight" fmla="*/ 6120000 w 611964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مراجعه به آن دسته اقلام هسته ك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پيش نگرهاي خ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منتشر مي سازد، هنگام مشاهده هر قل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692360" y="2924280"/>
            <a:ext cx="6119640" cy="1296720"/>
          </a:xfrm>
          <a:custGeom>
            <a:avLst/>
            <a:gdLst>
              <a:gd name="textAreaLeft" fmla="*/ 0 w 6119640"/>
              <a:gd name="textAreaRight" fmla="*/ 6120000 w 611964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ستفاده از اطلاعات ثبت شده توسط 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اضا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مودن مجموعه جاري پيش نگرها بر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پيش نگرهاي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قب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1692360" y="4581360"/>
            <a:ext cx="604836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7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كرار 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4284720" y="1341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: بدست آوردن اقلام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  <a:ea typeface="Roya"/>
              </a:rPr>
              <a:t>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611280" y="1413000"/>
            <a:ext cx="1728720" cy="1512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=R \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R \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539640" y="335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611280" y="4076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611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2988360" y="1700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843280" y="2779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2843280" y="4003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2771640" y="515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5364000" y="227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5364000" y="32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5364000" y="4365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11600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116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1116000" y="486900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348000" y="1700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3419640" y="2781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3419640" y="4005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3346560" y="5156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084720" y="227664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6083280" y="3213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6083280" y="436572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635280" y="14130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: اجراي الگوريتم محاسبه پيش نگ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4284720" y="2565360"/>
            <a:ext cx="2519280" cy="201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S ,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L=R ,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R ,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*R , # \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id , # \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L ,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611280" y="3357720"/>
            <a:ext cx="273672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 ( {[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S , #]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341964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348000" y="1125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: انتشار پيش نگرها در بين اقلام هس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1258920" y="220500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176364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59349"/>
                </a:solidFill>
                <a:latin typeface="Arial"/>
                <a:cs typeface="Roya"/>
              </a:rPr>
              <a:t>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50872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59349"/>
                </a:solidFill>
                <a:latin typeface="Arial"/>
                <a:cs typeface="Roya"/>
              </a:rPr>
              <a:t>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4140360" y="2205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1332000" y="2276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284720" y="2276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4284720" y="270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4284720" y="35733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4211640" y="4005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4211640" y="443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79640" y="22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4859280" y="22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4859280" y="2708280"/>
            <a:ext cx="26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4859280" y="3573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485928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4859280" y="4437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1258920" y="494028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47636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2050920" y="5084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4213080" y="50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788000" y="508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1258920" y="141300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1763640" y="981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5508720" y="981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140360" y="1413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421164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4211640" y="206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4859280" y="1628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4859280" y="2060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1258920" y="357336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1405080" y="3716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1979640" y="3716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140328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2050920" y="1628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4211640" y="2563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4211640" y="306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4859280" y="256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4859280" y="2997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421164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211640" y="407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4859280" y="3645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4859280" y="4076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4211640" y="45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4859280" y="45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4213080" y="501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485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=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محاسبه هسته هاي گروه اقلا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1835280" y="1052640"/>
            <a:ext cx="66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: مقداردهي جدول پيش نگرها و انجام گذر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900000" y="206064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3564000" y="2060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4716360" y="2060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5940360" y="206064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7164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971640" y="24908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71640" y="28512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971640" y="321156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898560" y="35701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898560" y="3930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7b56b"/>
                </a:solidFill>
                <a:latin typeface="Arial"/>
              </a:rPr>
              <a:t>I4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1476360" y="24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1476360" y="2781360"/>
            <a:ext cx="1440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.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1476360" y="3500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1476360" y="3860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.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1476360" y="4149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900000" y="4219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900000" y="4578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1476360" y="450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=.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900000" y="49388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90000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1476360" y="4869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476360" y="522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900000" y="21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476360" y="2060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`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1476360" y="3141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250920" y="162864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لم    مجموع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 flipV="1">
            <a:off x="356400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564000" y="184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5076720" y="148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يش نگ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059280" y="1773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4427640" y="1773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5651640" y="1773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6948360" y="177336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4716360" y="206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3564000" y="2060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5940360" y="206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7236000" y="2060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716360" y="242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5940360" y="242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7236000" y="242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7236000" y="2852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4716360" y="2852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5940360" y="2852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4716360" y="3213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5940360" y="3213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7236000" y="3213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4572000" y="3500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5796000" y="3500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7091280" y="3500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4572000" y="3860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5796000" y="3860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4572000" y="41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7093080" y="3860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5796000" y="41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7093080" y="41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7236000" y="4508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5940360" y="4508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093080" y="4869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867280" y="4869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5867280" y="5229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7093080" y="5229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901800" y="56595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b56b"/>
                </a:solidFill>
                <a:latin typeface="Arial"/>
              </a:rPr>
              <a:t>I9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1476360" y="558972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=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723600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4716360" y="5229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3635280" y="41497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4716360" y="4869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635280" y="386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987640" y="2852640"/>
            <a:ext cx="316872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شرده سازي جدو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1547640" y="4076640"/>
            <a:ext cx="604872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شرده سازي فيل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ايجاد يك ليست حالت براي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1908000" y="1773360"/>
            <a:ext cx="518508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شابه بودن سطرهاي زيادي از جدو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50072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450072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611280" y="1197000"/>
            <a:ext cx="1512720" cy="22334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 *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2700360" y="198900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349236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673272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2700360" y="162864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2700360" y="1341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399564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450072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500364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558000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615636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723600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774072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6732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7407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23600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615636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341964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3995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4500720" y="162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5580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00364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3059280" y="1989000"/>
            <a:ext cx="259236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349236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6732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5076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7236000" y="198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7740720" y="198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558000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4500720" y="2637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399564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615636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3995640" y="227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6156360" y="263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781200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99564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636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4500720" y="292428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5580000" y="29242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7236000" y="3213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673272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507672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492360" y="321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781200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399564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4500720" y="3573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615636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5580000" y="3573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7236000" y="3860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507672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3492360" y="3860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5651640" y="4508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3995640" y="4508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788508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07672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349236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399564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3995640" y="486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5651640" y="486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5651640" y="515772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500720" y="515772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5651640" y="551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4500720" y="551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399564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4500720" y="48690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6156360" y="4869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615636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6156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3492360" y="1268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6372360" y="1268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826920" y="414972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7380360" y="1197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4643280" y="1989000"/>
            <a:ext cx="3888000" cy="936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مساوي بودن بخ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حالت 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0,4,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1332000" y="22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979640" y="220500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3276720" y="2492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468360" y="1700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1258920" y="227664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Id        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(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3059280" y="19890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4643280" y="4005360"/>
            <a:ext cx="3818160" cy="93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ليست مشابهي براي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3349440" y="4653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132000" y="414972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1405080" y="458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2052720" y="458136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41440" y="4076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1332000" y="465300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+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$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380360" y="1197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4643280" y="1844640"/>
            <a:ext cx="3889440" cy="792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وارده هاي خطا در حال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403280" y="18464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2050920" y="18464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H="1">
            <a:off x="3421080" y="2131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39640" y="1341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1330200" y="1917720"/>
            <a:ext cx="17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*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3203640" y="162864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643280" y="2997360"/>
            <a:ext cx="388944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وارده هاي خطاي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1403280" y="3502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2050920" y="3502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3421080" y="3500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539640" y="2997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1330200" y="357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3203640" y="299736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4643280" y="4292640"/>
            <a:ext cx="3888000" cy="936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مساوي بودن بخ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ر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حالت ه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5,10,1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ادغام آ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فصل دو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5280" y="260280"/>
            <a:ext cx="3311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نحو زبان و تجز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1341360"/>
            <a:ext cx="79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اهداف رفتار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Roya"/>
              </a:rPr>
              <a:t>دانشجو پس  از مطالعه اين فصل با مفاهيم زير آشنا خواهد ش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شتقاق و تجز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نحوگ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درخت نحو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جزيه بالا به پايين و پايين به بال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رج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ALR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فشرده سازي جدو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380360" y="1197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5148360" y="2133720"/>
            <a:ext cx="338436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وارده هاي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5148360" y="3933720"/>
            <a:ext cx="3384360" cy="720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وارده هاي حال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1906560" y="220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2554200" y="2205000"/>
            <a:ext cx="18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H="1">
            <a:off x="39258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1042920" y="1700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1833480" y="227664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*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)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3708360" y="220500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908000" y="4726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2556000" y="4726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392580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044720" y="422100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     نم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835280" y="479736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708360" y="357336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بديل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1908000" y="4726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2556000" y="4726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1835280" y="479736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*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s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ny     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19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وقوع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1116000" y="1484280"/>
            <a:ext cx="6986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شخيص خطا تنها با مراجعه به جدول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4572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116000" y="2637000"/>
            <a:ext cx="69865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م خطا به محض نيافتن ادامه مناسب براي ورودي در حال پو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4572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1116000" y="3716280"/>
            <a:ext cx="6986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كاهش دنباله روي پش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1116000" y="4797360"/>
            <a:ext cx="6986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دم ورود نماد ايجاد كننده خطا به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457200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0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ويش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5508720" y="1484280"/>
            <a:ext cx="280836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anic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2124000" y="31399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611280" y="3141720"/>
            <a:ext cx="76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پويش پشته به پايين تا يافتن حال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پايانه خا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611280" y="3933720"/>
            <a:ext cx="76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صرف نظر از يك يا چند نماد ورودي تا يافتن نماد دقيقا مناسب برا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611280" y="4654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نتقال حال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goto [s , A]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پشته و ادامه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0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ويش خطا در تجزي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R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508720" y="1484280"/>
            <a:ext cx="280836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hras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2340000" y="30686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آزمايش هر وارده خطا در جدول تجز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428920" y="3860640"/>
            <a:ext cx="51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صميم گيري در مرورد منشاء بروز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2865600" y="4579920"/>
            <a:ext cx="47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يجاد رويه پوششي مناسب براي خط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وليد كننده تجزيه كننده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Yacc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932360" y="1125360"/>
            <a:ext cx="3673440" cy="648000"/>
          </a:xfrm>
          <a:prstGeom prst="bevel">
            <a:avLst>
              <a:gd name="adj" fmla="val 18838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ايجاد مترجم توس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5076720" y="2060640"/>
            <a:ext cx="323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آماده شدن پرونده اي حاوي مشخصه مترجم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5435640" y="2997360"/>
            <a:ext cx="28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تبديل محتواي پرونده به برنامه در زبا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5148360" y="4005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كامپايل برنامه توليدي همراه كتابخانه برنامه تجزي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4788000" y="5084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: برنامه تجزيه كنن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2050920" y="2205000"/>
            <a:ext cx="122400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كامپايل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2050920" y="3357720"/>
            <a:ext cx="122400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مپايل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050920" y="4581360"/>
            <a:ext cx="122400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118584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1185840" y="486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1185840" y="364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3274920" y="4869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3274920" y="3645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3274920" y="24922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395280" y="1916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شخصه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translate.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3132000" y="2133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y.tab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2987640" y="32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684360" y="3284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y.tab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539640" y="4437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2556000" y="4365720"/>
            <a:ext cx="201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(تجزيه كنند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979640" y="465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Yacc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اجزاي برنا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835280" y="1197000"/>
            <a:ext cx="2089080" cy="576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1835280" y="1916280"/>
            <a:ext cx="2089080" cy="576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قوانين ترج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835280" y="2637000"/>
            <a:ext cx="2089080" cy="576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الهاي حام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4932360" y="1773360"/>
            <a:ext cx="338472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 هاي برنامه مبدا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4572000" y="1197000"/>
            <a:ext cx="73080" cy="1944720"/>
          </a:xfrm>
          <a:custGeom>
            <a:avLst/>
            <a:gdLst>
              <a:gd name="textAreaLeft" fmla="*/ 0 w 73080"/>
              <a:gd name="textAreaRight" fmla="*/ 26280 w 730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076720" y="4292640"/>
            <a:ext cx="338472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رتيب در متن برنامه مبدا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4572000" y="3716280"/>
            <a:ext cx="73080" cy="2089080"/>
          </a:xfrm>
          <a:custGeom>
            <a:avLst/>
            <a:gdLst>
              <a:gd name="textAreaLeft" fmla="*/ 0 w 73080"/>
              <a:gd name="textAreaRight" fmla="*/ 26280 w 730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114280" y="37162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ن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1708560" y="45813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وانين ترج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1463040" y="537372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الهاي حام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2268360" y="501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2268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Yacc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اعلا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580000" y="2997360"/>
            <a:ext cx="287964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خش اعلان برنا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flipH="1" flipV="1">
            <a:off x="4572000" y="227664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flipH="1">
            <a:off x="4572000" y="3645000"/>
            <a:ext cx="1008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539640" y="1701720"/>
            <a:ext cx="39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هاي معمول د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و محصور بي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%} , %{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اعلان لغات م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-324000" y="4149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نشانه هاي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4-21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Yacc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قوانين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4211640" y="1413000"/>
            <a:ext cx="417672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 قوانين ترجمه بلافاصله پس ا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6443640" y="206064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5724360" y="206064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6588000" y="2852640"/>
            <a:ext cx="1295640" cy="792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ولد يا قان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4932360" y="2852640"/>
            <a:ext cx="1295280" cy="792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 flipH="1">
            <a:off x="6300360" y="3645000"/>
            <a:ext cx="6462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 flipH="1" flipV="1">
            <a:off x="5796000" y="3645000"/>
            <a:ext cx="5047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 flipH="1">
            <a:off x="5003280" y="4221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-324000" y="3573360"/>
            <a:ext cx="53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&lt;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مت چ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gt;    : &l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خاب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gt; {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0" y="400536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: &l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خاب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gt; {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39640" y="4508640"/>
            <a:ext cx="45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: &lt;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نتخاب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&gt; {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2050920" y="5013360"/>
            <a:ext cx="863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19040" y="3789360"/>
            <a:ext cx="6067440" cy="720720"/>
          </a:xfrm>
          <a:prstGeom prst="flowChartTermina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وسيله تشخيص عضويت يك رشته در زب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28760" y="2276640"/>
            <a:ext cx="6048360" cy="718920"/>
          </a:xfrm>
          <a:prstGeom prst="flowChartTermina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گرامر: روش ساخت رشته هايي متشكل از نما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24080" y="4581360"/>
            <a:ext cx="6059520" cy="720720"/>
          </a:xfrm>
          <a:prstGeom prst="flowChartTermina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شخص كننده ساختار يك زب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1341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تعر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88000" y="3213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کارب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عريف رياضي گرام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گرامر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گانه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N, T, S,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G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Arial"/>
              </a:rPr>
              <a:t>=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مجموعه غير پايانه ه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48240"/>
                </a:solidFill>
                <a:latin typeface="Arial"/>
                <a:ea typeface="Roya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T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مجموعه پايانه ه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Arial"/>
              </a:rPr>
              <a:t>=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عضو شرو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P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Arial"/>
              </a:rPr>
              <a:t>=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مجموعه قوانين توليد رشته هاي زبا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 يك گرامر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416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84824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{ E, F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T </a:t>
            </a:r>
            <a:r>
              <a:rPr b="1" lang="en-US" sz="2800" spc="-1" strike="noStrike">
                <a:solidFill>
                  <a:srgbClr val="848240"/>
                </a:solidFill>
                <a:latin typeface="Arial"/>
                <a:ea typeface="Roy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{ +, * , / ,id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800" spc="-1" strike="noStrike">
                <a:solidFill>
                  <a:srgbClr val="848240"/>
                </a:solidFill>
                <a:latin typeface="Arial"/>
                <a:ea typeface="Roy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P </a:t>
            </a:r>
            <a:r>
              <a:rPr b="1" lang="en-US" sz="2800" spc="-1" strike="noStrike">
                <a:solidFill>
                  <a:srgbClr val="848240"/>
                </a:solidFill>
                <a:latin typeface="Arial"/>
                <a:ea typeface="Roy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{ 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 * id  ,  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 / E  ,  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 + F }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0720" y="458136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شته توليدي نمو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4653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id * id+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شتقاق</a:t>
            </a:r>
            <a:br>
              <a:rPr sz="3600"/>
            </a:b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7760" y="1412640"/>
            <a:ext cx="8435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فرآيند توليد رشته از گرامر با شروع از عنصر ابتدا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گرامر و استفاده از قوانين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44880" y="378936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نواع اشتق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933720"/>
            <a:ext cx="1081080" cy="287280"/>
          </a:xfrm>
          <a:prstGeom prst="leftArrow">
            <a:avLst>
              <a:gd name="adj1" fmla="val 50000"/>
              <a:gd name="adj2" fmla="val 9407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884320"/>
            <a:ext cx="530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ز چپ: در هر قدم انجام جايگزيني روي سمت چپ ترين غيرپايا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7800" y="43657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ز راست: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 هر قدم انجام جايگزيني روي سمت راست ترين غيرپايا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51640" y="2924280"/>
            <a:ext cx="72720" cy="936360"/>
          </a:xfrm>
          <a:custGeom>
            <a:avLst/>
            <a:gdLst>
              <a:gd name="textAreaLeft" fmla="*/ 0 w 72720"/>
              <a:gd name="textAreaRight" fmla="*/ 26280 w 727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51640" y="4221000"/>
            <a:ext cx="72720" cy="936720"/>
          </a:xfrm>
          <a:custGeom>
            <a:avLst/>
            <a:gdLst>
              <a:gd name="textAreaLeft" fmla="*/ 0 w 72720"/>
              <a:gd name="textAreaRight" fmla="*/ 26280 w 72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 اشتقاق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04720" y="1268280"/>
            <a:ext cx="18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 + id *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10760" y="126828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وليد رش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14840" y="230976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شتقاق ر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9640" y="2924280"/>
            <a:ext cx="8061480" cy="50472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E *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E * id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id * id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id *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56360" y="4076640"/>
            <a:ext cx="23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شتقاق چ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4724280"/>
            <a:ext cx="8061480" cy="50508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+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E *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id * 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d + id * i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جايگاه درس در رشته کامپيوتر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ضرورت اين درس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ضرورت نياز به زبانهای سطح بال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ضرورت ترجمه برنامه های نوشته شده با زبان سطح بالا به برنامه به زبان ماشي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نوع زبانهای برنامه نويسی سطح بال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وس پيش نياز: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ظريه زبانها و ماشين، طراحی و پياده سازی زبانه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ع درس: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جبار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دادکل ساعات تدريس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داد جلسات تدريس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3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رخت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600480" y="1268280"/>
            <a:ext cx="10351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تجزيه نشان دهنده چگونگي اشتقاق رشته اي از زب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از نماد شروع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67400" y="256536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 درخت تجز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3860640"/>
            <a:ext cx="6624360" cy="64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رزندان آ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YZ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ه اي در درخت و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=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Y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نون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508640"/>
            <a:ext cx="6622920" cy="649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رزندان آ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 ,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ه اي در درخت و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=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X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ن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35280" y="5157720"/>
            <a:ext cx="5473440" cy="64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ايانه ها ( حروف كوچك) تنها در برگها ديده مي شون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76720" y="3213000"/>
            <a:ext cx="2232000" cy="646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يشه درخ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3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رخت اشتقاق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1279080" y="1413000"/>
            <a:ext cx="120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تجزيه اي نشان دهنده مراحل اشتقاق بكار رفته (راست يا چ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94836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ث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2852640"/>
            <a:ext cx="3816360" cy="2881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29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3571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80000" y="3571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4920" y="4363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5156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79640" y="4363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5229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2000" y="3789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80000" y="45799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82920" y="4363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916360" y="3284640"/>
            <a:ext cx="2174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40000" y="4005360"/>
            <a:ext cx="2174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03640" y="4797360"/>
            <a:ext cx="2174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635280" y="4076640"/>
            <a:ext cx="21744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3564000" y="3284280"/>
            <a:ext cx="28872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067280" y="4005000"/>
            <a:ext cx="28872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19640" y="3429000"/>
            <a:ext cx="144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995280" y="4221000"/>
            <a:ext cx="180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43280" y="4797360"/>
            <a:ext cx="21780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56760" y="386064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 + id *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مبهم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1413000"/>
            <a:ext cx="78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وجود دو اشتقاق راست يا دو اشتقاق چپ راي يك رشته در گرام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84560" y="22050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مث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51680" y="220500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 + id *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76120" y="306864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شتقاق چپ ا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22120" y="4365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شتقاق چپ د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8360" y="3789360"/>
            <a:ext cx="6551640" cy="57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386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E +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id +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id + E *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id + id *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id + id *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5013360"/>
            <a:ext cx="6480000" cy="57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08464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+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 +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 + E *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 + id *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نشان گذاري پسوند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119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نشان گذاري يك عبارت مانن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1916280"/>
            <a:ext cx="820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تغير و يا ثابت باشد نشان گذاري آن خودش مي ش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708280"/>
            <a:ext cx="770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بارتي بشك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 op E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شد كه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ملگر دودويي است نشان گذاري آن عبارتست ا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1 F2 Op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كه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1, F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شان گذار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 , E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ست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4005360"/>
            <a:ext cx="6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3789360"/>
            <a:ext cx="784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بارتي بشك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شد، نشان گذاري برا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مان نشان گذاري برا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ي باشد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0364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56000" y="5157720"/>
            <a:ext cx="934920" cy="289080"/>
          </a:xfrm>
          <a:prstGeom prst="rightArrow">
            <a:avLst>
              <a:gd name="adj1" fmla="val 50000"/>
              <a:gd name="adj2" fmla="val 8085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5013360"/>
            <a:ext cx="115236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-(5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013360"/>
            <a:ext cx="1079640" cy="430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2+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عريف نحو گر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6320" y="184464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0033"/>
                </a:solidFill>
                <a:latin typeface="Arial"/>
                <a:ea typeface="Roya"/>
              </a:rPr>
              <a:t> كاربرد براي ترجمه ساختارهاي زب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2708280"/>
            <a:ext cx="77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ترجمه ساختار را بر حسب صفات مربوط به مولفه هاي نح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357336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تعيين نوع ساختار، مكان اولين دستور توليد شده در برنامه هدف  يا تعداد دستورات براي كامپايل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40000" y="260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ea typeface="Roya"/>
              </a:rPr>
              <a:t>2-6-1 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تعريف نحوي جهت د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700280"/>
            <a:ext cx="5761080" cy="79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گرامر و مجموعه اي از قواعد معنايي وابسته به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-1189080" y="3429000"/>
            <a:ext cx="8353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-4320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هر نماد در گرامر مجموعه اي از صفات دار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هر مولد يا قانون گرامر مجموعه اي از قواع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   معنايي براي محاسبه مقادير صفات نمادها وجود دارد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164360" y="3284640"/>
            <a:ext cx="71640" cy="1800000"/>
          </a:xfrm>
          <a:custGeom>
            <a:avLst/>
            <a:gdLst>
              <a:gd name="textAreaLeft" fmla="*/ 0 w 71640"/>
              <a:gd name="textAreaRight" fmla="*/ 25920 w 716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060"/>
                </a:lnTo>
                <a:cubicBezTo>
                  <a:pt x="10800" y="10960"/>
                  <a:pt x="16200" y="11860"/>
                  <a:pt x="21600" y="11860"/>
                </a:cubicBezTo>
                <a:cubicBezTo>
                  <a:pt x="16200" y="11860"/>
                  <a:pt x="10800" y="12760"/>
                  <a:pt x="10800" y="1366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7b5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08720" y="3573360"/>
            <a:ext cx="14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صفات و محاسبه آ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27280" y="1268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ن درخت ترجمه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6920" y="2205000"/>
            <a:ext cx="7490160" cy="865080"/>
          </a:xfrm>
          <a:prstGeom prst="flowChartAlternateProcess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ل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ساختن درخت تجزيه براي ورود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3284640"/>
            <a:ext cx="7490160" cy="936360"/>
          </a:xfrm>
          <a:prstGeom prst="flowChartAlternateProcess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) اگر گر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درخت تجزيه با نما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ز گرامر متناظر باشد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.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قدار صف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ز نما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آن گره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4437000"/>
            <a:ext cx="7490160" cy="936720"/>
          </a:xfrm>
          <a:prstGeom prst="flowChartAlternateProcess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) مقدا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x.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گر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استفاده از قواعد معنايي براي صف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همرا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ا قانون گرامري استفاده شده درگر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n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حاسبه مي شو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87280" y="177336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87280" y="1701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48000" y="17733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21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87280" y="4797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50920" y="1773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ان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27640" y="1773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قواعد معناي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7280" y="2205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      expr1 +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7280" y="256536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       expr1 -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7280" y="29257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      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63640" y="4292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7280" y="3284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87280" y="3573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     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292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      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58920" y="386064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06920" y="220500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.t :=  expr1.t  //  term.t  //  ,+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06920" y="2565360"/>
            <a:ext cx="32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.t :=  expr1.t  //  term.t  //  , -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06920" y="2925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.t :=  term.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06920" y="328464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.t := , 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06920" y="3573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.t :=  , 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51280" y="386064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06920" y="42926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.t :=  , 9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87280" y="501336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عريف نحوگرا براي ترجمه عبارات ميانوندي به عبارت معادل پسون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7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درخت نحوي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16304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.t = 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84360" y="2349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.t = 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299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.t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32720" y="24224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.t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64000" y="299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.t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00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.t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779640" y="1989000"/>
            <a:ext cx="10810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907640" y="27097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2062080"/>
            <a:ext cx="5745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278136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76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1636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95640" y="35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64000" y="2060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308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0328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58920" y="47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48360" y="49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51280" y="47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21964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7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نواع درخت نح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2492280"/>
            <a:ext cx="6985080" cy="649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هر گره نماينده يك عملگر و فرزندان آن عملوند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4437000"/>
            <a:ext cx="6985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تجزيه اي كه عملگرها خود فرزند محسوب مي شون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155736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نحو مج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00720" y="364500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خت نحو واق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564000" y="189000"/>
            <a:ext cx="51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فصل اول: مقدمه اي بر کامپايل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341360"/>
            <a:ext cx="79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اهداف رفتار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Roya"/>
              </a:rPr>
              <a:t>دانشجو پس  از مطالعه اين فصل با مفاهيم زير آشنا خواهد ش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برنامه هاي تحليل ک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آشنايي با بخش تحليل و بخش سنتز کامپايل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ابزارهای ساخت کامپايل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لگوي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27280" y="234936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58920" y="1628640"/>
            <a:ext cx="6553080" cy="107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گرامر مستقل از متني كه قطعه برنامه هايي كه عمليات معن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اميده مي شوند در سمت راست قوانين آن اضافه شده ان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87640" y="335772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فاوت با ترجمه نحوگر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19280" y="4579920"/>
            <a:ext cx="590400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مايش ترتيب ارزشيابي قوانين بطور صريح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8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رخت توليد شده براي الگوي ترجم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71640" y="1557360"/>
            <a:ext cx="3744720" cy="2158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11280" y="1701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06560" y="2925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403280" y="2060640"/>
            <a:ext cx="100800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132000" y="1917720"/>
            <a:ext cx="10782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339640" y="2133720"/>
            <a:ext cx="3589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87280" y="270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1280" y="256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27280" y="3068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int ( ,+, 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87280" y="38606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يك برگ اضافي ساخته شده براي عمل مع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6920" y="4508640"/>
            <a:ext cx="763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Roya"/>
              </a:rPr>
              <a:t>1-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ن فرزند اضافي براي درخ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48240"/>
                </a:solidFill>
                <a:latin typeface="Arial"/>
                <a:ea typeface="Roya"/>
              </a:rPr>
              <a:t>2-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تصل نمودن اين فرزند به گره مربوط به قانون خود در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35640" y="227664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طريقه ساخت درخ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13372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2-9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جزيه ( پارسينگ)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2276640"/>
            <a:ext cx="6842160" cy="237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71640" y="2492280"/>
            <a:ext cx="7056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جزيه به كمك تحليلگر نحوي و به نام تحليل نحوي انجام مي گير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تجزيه تعلق رشته ورودي به زبان مبدا بررسي مي شو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رسي طبق ساختار و نحو دستورات زبان مبدا انجام مي گير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306864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386064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9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- دسته بندي روش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92360" y="907920"/>
            <a:ext cx="5202360" cy="223380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بالا به پاي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خته  شدن درخت تجزيه 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لا به پايين. مانن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L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1042920" y="3642840"/>
            <a:ext cx="5113440" cy="223380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پايين به بالا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اخته شدن درخت تجزيه از پاي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انند تجزيه به با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گر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ولويت و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9-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كننده بالا به پايي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79760" y="1484280"/>
            <a:ext cx="4032000" cy="719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آغاز تجزيه از عنصر شروع گرا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79760" y="2563920"/>
            <a:ext cx="4032000" cy="71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قانون يك غير پاي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22800" y="3732120"/>
            <a:ext cx="2543040" cy="560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نون كاربرد دارد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48360" y="4869000"/>
            <a:ext cx="3503520" cy="71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و به قانون سطح بع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4869000"/>
            <a:ext cx="3503520" cy="718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قبگرد به قانون هم سطح ديگ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19640" y="4292640"/>
            <a:ext cx="6001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587760" y="4292640"/>
            <a:ext cx="4795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75400" y="429264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98680" y="4363920"/>
            <a:ext cx="5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43280" y="220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4328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از تجزيه بالا به پايين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11970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b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cf/ ce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16720" y="19162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تجزي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03280" y="4221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708280"/>
            <a:ext cx="6265800" cy="27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03640" y="3429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90560" y="3502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59640" y="3284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4149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8000" y="40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30560" y="4221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8000" y="4003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71640" y="414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227640" y="38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27640" y="4005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64360" y="386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91280" y="465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4005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95640" y="4149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51280" y="4149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16360" y="4941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4653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35280" y="4941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38560" y="3502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51280" y="3502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19280" y="379080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05092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203640" y="378936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95640" y="3862440"/>
            <a:ext cx="215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203640" y="4581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62200" y="3860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3635280" y="458136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06920" y="37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651640" y="3502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859280" y="3716280"/>
            <a:ext cx="217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659640" y="357192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932360" y="43657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5363640" y="371808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291280" y="4292640"/>
            <a:ext cx="2887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32000" y="306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ack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932360" y="306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32720" y="47959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020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7093080" y="35715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19640" y="3718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20000" y="3645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58920" y="4149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9-1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جزيه بالا به پايين پيش گويان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00720" y="3860640"/>
            <a:ext cx="208764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نماد پيش ن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4653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تمام پايانه هايي است كه در قوانين مربوط به غير پايانه در سمت چپ قرار مي گير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2708280"/>
            <a:ext cx="76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ا نگاه به نماد پيش نگر در مورد استفاده از هر قانون درتصميم گي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11280" y="1700280"/>
            <a:ext cx="604836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ش تجزيه بالا به پايين بدون ويژگي عقبگ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330033"/>
                </a:solidFill>
                <a:latin typeface="Times New Roman"/>
              </a:rPr>
              <a:t>مثا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10280" y="1341360"/>
            <a:ext cx="50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نمادهاي پيش نگر يا مجمو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11640" y="1380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332000" y="2276640"/>
            <a:ext cx="2879640" cy="172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76360" y="2349360"/>
            <a:ext cx="287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 /cC /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B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14800" y="4941720"/>
            <a:ext cx="30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(C) : {c, a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14800" y="4437000"/>
            <a:ext cx="30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(B): { d, c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03640" y="393372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(A):{ a, c, e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43280" y="2781360"/>
            <a:ext cx="1584360" cy="1224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3269" y="11094"/>
                </a:moveTo>
                <a:arcTo wR="-7537" hR="-7537" stAng="10665881" swAng="-10665881"/>
                <a:lnTo>
                  <a:pt x="0" y="10800"/>
                </a:lnTo>
                <a:arcTo wR="10800" hR="10800" stAng="10800000" swAng="10665881"/>
                <a:lnTo>
                  <a:pt x="24290" y="10273"/>
                </a:lnTo>
                <a:lnTo>
                  <a:pt x="20130" y="14771"/>
                </a:lnTo>
                <a:lnTo>
                  <a:pt x="15633" y="10611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0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بازگشتي چپ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00000" y="13413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ظاهر شدن غير پايانه سمت چپ در سمت راست قانون بعنوان اولين عنص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68160" y="270828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Roya"/>
              </a:rPr>
              <a:t>ح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ذف بازگشتي چپ پيش از تجز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71640" y="4365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 / Ab / Ac / x /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40360" y="4508640"/>
            <a:ext cx="865080" cy="215640"/>
          </a:xfrm>
          <a:prstGeom prst="rightArrow">
            <a:avLst>
              <a:gd name="adj1" fmla="val 50000"/>
              <a:gd name="adj2" fmla="val 10029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76720" y="4149720"/>
            <a:ext cx="28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Z /  y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Z / bZ / 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71640" y="4005360"/>
            <a:ext cx="6408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140360" y="333360"/>
            <a:ext cx="37447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حذف بازگشتي چ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1450800"/>
            <a:ext cx="2735280" cy="1800360"/>
          </a:xfrm>
          <a:prstGeom prst="octagon">
            <a:avLst>
              <a:gd name="adj" fmla="val 2928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71640" y="1773360"/>
            <a:ext cx="2098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Zar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Zar"/>
              </a:rPr>
              <a:t> Aa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Zar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Zar"/>
              </a:rPr>
              <a:t> Ac / 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59280" y="3068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03640" y="2852640"/>
            <a:ext cx="2643120" cy="1695600"/>
          </a:xfrm>
          <a:prstGeom prst="octagon">
            <a:avLst>
              <a:gd name="adj" fmla="val 2928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19640" y="3141720"/>
            <a:ext cx="266508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c / Aad /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a 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80000" y="4292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22920" y="4043520"/>
            <a:ext cx="2735280" cy="1800000"/>
          </a:xfrm>
          <a:prstGeom prst="octagon">
            <a:avLst>
              <a:gd name="adj" fmla="val 2928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56360" y="4149720"/>
            <a:ext cx="237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a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Z / ad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نمونه اي از برنامه هاي تحليل کنن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ويرايشگرهاي ساختا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چاپگرهاي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pretty pri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رسي کننده هاي ايست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فسره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شکل دهنده هاي مت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کامپايلرهاي سيليسيوم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فسرهاي پرس و ج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فاكتور چپ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-128160" y="1484280"/>
            <a:ext cx="97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يكسان بودن عنصر سمت چپ در حداقل دو قانون گرا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003640" y="2637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فاكتورگيري چ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00000" y="3933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 /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32000" y="4149720"/>
            <a:ext cx="1008360" cy="287280"/>
          </a:xfrm>
          <a:prstGeom prst="rightArrow">
            <a:avLst>
              <a:gd name="adj1" fmla="val 50000"/>
              <a:gd name="adj2" fmla="val 87751"/>
            </a:avLst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88000" y="3789360"/>
            <a:ext cx="316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195640" y="364500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كتورگيري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از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26920" y="3429000"/>
            <a:ext cx="5616720" cy="2016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35160" y="260280"/>
            <a:ext cx="37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Arial"/>
                <a:cs typeface="Roya"/>
              </a:rPr>
              <a:t>فاكتورگيري چ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1280" y="1197000"/>
            <a:ext cx="3240000" cy="2089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71640" y="3571920"/>
            <a:ext cx="3313080" cy="208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35640" y="1197000"/>
            <a:ext cx="3238560" cy="216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266920" y="342900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03640" y="3860640"/>
            <a:ext cx="28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tS / iEt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796000" y="335772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56360" y="1484280"/>
            <a:ext cx="216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EtSZ 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00000" y="1557360"/>
            <a:ext cx="2735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EtSeS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حليل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71640" y="1413000"/>
            <a:ext cx="7416720" cy="2087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دريافت يك رشته كاراكتري از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استخراج نشانه ها از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تحويل نشانه ها به تجزيه ك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ارتباط دادن پيامهاي خطاي توليد شده كامپايلر با برنامه مب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71640" y="4508640"/>
            <a:ext cx="554364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ذف فضاهاي خالي بين عبارات و توضيحات برنا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شخيص شناسه ها و كلمات كليدي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258560" y="22050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58920" y="2205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443640" y="33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مث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4130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حليل لغوي عبارت دستوري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76360" y="1413000"/>
            <a:ext cx="3456000" cy="503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 = count +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11640" y="206064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563920"/>
            <a:ext cx="1986120" cy="93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05080" y="4724280"/>
            <a:ext cx="3454200" cy="5050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 = id +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284720" y="3573360"/>
            <a:ext cx="792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03640" y="494172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40360" y="4508640"/>
            <a:ext cx="1727280" cy="93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30200" y="1413000"/>
            <a:ext cx="3597480" cy="503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 = count +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58920" y="4724280"/>
            <a:ext cx="3597120" cy="5050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 = id +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رابط تحليل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8880" y="1413000"/>
            <a:ext cx="1347840" cy="792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762280" y="2421000"/>
            <a:ext cx="1663560" cy="64764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835280" y="1989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30200" y="39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1619280" y="220464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4500720" y="2276640"/>
            <a:ext cx="863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955400">
            <a:off x="1593000" y="1671120"/>
            <a:ext cx="20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خواندن كاراك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977600">
            <a:off x="799560" y="2535480"/>
            <a:ext cx="212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گرداندن كاراك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9602600">
            <a:off x="4168440" y="2606760"/>
            <a:ext cx="24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ليد و ارسال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شانه و صفات 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443640" y="2205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59640" y="2781360"/>
            <a:ext cx="1584360" cy="792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جزيه كنند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168880" y="1557360"/>
            <a:ext cx="1346400" cy="792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يانگ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372360" y="134136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صرف نشانه ها براي تعيين ساختار دستو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87280" y="4581360"/>
            <a:ext cx="540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هر زمان حاوي يك بلوك از كاراكت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شاره گري به مكان نشانه بعدي پردازش نش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77080" y="4437000"/>
            <a:ext cx="1187280" cy="1008000"/>
          </a:xfrm>
          <a:prstGeom prst="octagon">
            <a:avLst>
              <a:gd name="adj" fmla="val 2928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يانگ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شكيل جدول نماد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343480" y="115164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55640" y="112536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دولي ساخته شونده توسط. فازهاي تحليل، مورد استفاده فازهاي توليد ك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32720" y="2637000"/>
            <a:ext cx="172692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ز تحليل 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32720" y="3429000"/>
            <a:ext cx="172692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ز تحليل نح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732720" y="5013360"/>
            <a:ext cx="172692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ز توليد ك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6084360" y="28526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6084360" y="364500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084720" y="4437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1040" y="2637000"/>
            <a:ext cx="57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ذخيره رشته كاراكتري تشكيل دهنده شناسه در جد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0920" y="342900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ضافه كرد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ع شناسه، مورد استفاده(رويه، متغير و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4360" y="4221000"/>
            <a:ext cx="53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ج مكان شناسه در حافظه در جد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32720" y="4221000"/>
            <a:ext cx="172692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فاز تحليل معن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08436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9600" y="5013360"/>
            <a:ext cx="57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اطلاعات جدول براي دسترسي به متغير و توليد ك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2-13-1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جدول نماد- روالها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64000" y="1268280"/>
            <a:ext cx="2592720" cy="1008360"/>
          </a:xfrm>
          <a:prstGeom prst="diamond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( s , t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58920" y="1268280"/>
            <a:ext cx="2592360" cy="1008360"/>
          </a:xfrm>
          <a:prstGeom prst="diamond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up ( s 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6108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5600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427640" y="27813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ديس وارده جديد مربوط به رشت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نشان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بر مي گردا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56000" y="342900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1280" y="278136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گ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در جدول است، انديس آن بر مي گردد اگر نه، صفر بر مي گرد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92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042920" y="4221000"/>
            <a:ext cx="7058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تعيين وجود شناسه در جدول نم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در صورت عدم وجود شناسه ، درج آن در جد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5636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2-13-2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جدول نماد- پياده سازي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00360" y="1989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198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20000" y="198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27640" y="242100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27640" y="292428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27640" y="342900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0720" y="393372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6000" y="162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شاره گ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724360" y="162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نش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94836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ص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27640" y="1628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380360" y="1628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1628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t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50920" y="1413000"/>
            <a:ext cx="201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كلمات دستور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در متن برنا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27640" y="1413000"/>
            <a:ext cx="424800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195640" y="1413000"/>
            <a:ext cx="72720" cy="93636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11280" y="148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11280" y="184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971640" y="5013360"/>
          <a:ext cx="7283520" cy="455400"/>
        </p:xfrm>
        <a:graphic>
          <a:graphicData uri="http://schemas.openxmlformats.org/drawingml/2006/table">
            <a:tbl>
              <a:tblPr/>
              <a:tblGrid>
                <a:gridCol w="728640"/>
                <a:gridCol w="728640"/>
                <a:gridCol w="727200"/>
                <a:gridCol w="728640"/>
                <a:gridCol w="728640"/>
                <a:gridCol w="728640"/>
                <a:gridCol w="728640"/>
                <a:gridCol w="726840"/>
                <a:gridCol w="728640"/>
                <a:gridCol w="729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Zar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"/>
          <p:cNvSpPr/>
          <p:nvPr/>
        </p:nvSpPr>
        <p:spPr>
          <a:xfrm>
            <a:off x="3203640" y="558972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نباله كاراكترهاي 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03280" y="2276640"/>
            <a:ext cx="3313080" cy="2665080"/>
          </a:xfrm>
          <a:custGeom>
            <a:avLst/>
            <a:gdLst/>
            <a:ahLst/>
            <a:rect l="l" t="t" r="r" b="b"/>
            <a:pathLst>
              <a:path w="2087" h="1633">
                <a:moveTo>
                  <a:pt x="2087" y="0"/>
                </a:moveTo>
                <a:cubicBezTo>
                  <a:pt x="1558" y="0"/>
                  <a:pt x="1029" y="0"/>
                  <a:pt x="681" y="272"/>
                </a:cubicBezTo>
                <a:cubicBezTo>
                  <a:pt x="333" y="544"/>
                  <a:pt x="61" y="1519"/>
                  <a:pt x="0" y="1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86160" y="20606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3440" y="2492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57440" y="306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140360" y="2708280"/>
            <a:ext cx="720720" cy="2305080"/>
          </a:xfrm>
          <a:custGeom>
            <a:avLst/>
            <a:gdLst/>
            <a:ahLst/>
            <a:rect l="l" t="t" r="r" b="b"/>
            <a:pathLst>
              <a:path w="2087" h="1633">
                <a:moveTo>
                  <a:pt x="2087" y="0"/>
                </a:moveTo>
                <a:cubicBezTo>
                  <a:pt x="1558" y="0"/>
                  <a:pt x="1029" y="0"/>
                  <a:pt x="681" y="272"/>
                </a:cubicBezTo>
                <a:cubicBezTo>
                  <a:pt x="333" y="544"/>
                  <a:pt x="61" y="1519"/>
                  <a:pt x="0" y="1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100480" y="3213000"/>
            <a:ext cx="2063880" cy="1728720"/>
          </a:xfrm>
          <a:custGeom>
            <a:avLst/>
            <a:gdLst/>
            <a:ahLst/>
            <a:rect l="l" t="t" r="r" b="b"/>
            <a:pathLst>
              <a:path w="1300" h="1089">
                <a:moveTo>
                  <a:pt x="574" y="0"/>
                </a:moveTo>
                <a:cubicBezTo>
                  <a:pt x="287" y="68"/>
                  <a:pt x="0" y="136"/>
                  <a:pt x="121" y="317"/>
                </a:cubicBezTo>
                <a:cubicBezTo>
                  <a:pt x="242" y="498"/>
                  <a:pt x="1104" y="1006"/>
                  <a:pt x="1300" y="10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اشين پشته انتزاع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58920" y="1268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اشين پشته انتزاعي: شكل مرسوم نمايش مياني توليد ك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732720" y="2205000"/>
            <a:ext cx="16570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جزاي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95640" y="2349360"/>
            <a:ext cx="3958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حافظه دستو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حافظه داد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732720" y="3716280"/>
            <a:ext cx="165564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حاسبات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22640" y="3933720"/>
            <a:ext cx="3862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حاسبات صحي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ستورات دستكاري پش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ند كنتر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4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ستورات محاسبات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197000"/>
            <a:ext cx="836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84824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قابليت پياده سازي مستقيم عملهاي پايه مانند جمع ، تفريق و ... در ماشين انتز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4640" y="1628640"/>
            <a:ext cx="82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84824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پياده سازي. عمليات پيچيده تر با دنباله اي از دستورات اوليه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5280" y="2060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84824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ستفاده از نمايش پسوندي در كد ماشين براي ارزيابي يك عبارت محسباتي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01760" y="2492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84824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استفاده از پشته در حين ارزيابي عب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19280" y="3716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59280" y="335772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ارزشيابي عبارت در ماش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059280" y="4797360"/>
            <a:ext cx="332388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يرون پراندن عملوندها از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132000" y="4221000"/>
            <a:ext cx="316872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جام عملگر بر روي مقدار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16360" y="5300640"/>
            <a:ext cx="363204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رار دادن نتيجه بر روي پش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1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تعريف كامپايل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413000"/>
            <a:ext cx="77248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 ترجمه برنامه از زبان مبدا به برنامه معادل دز زبان مياني مانند اسمب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565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گزارش وجود خطاها را در برنامه مبدا به كارب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3500280"/>
            <a:ext cx="2160720" cy="122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کامپايل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«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تحليل+ سنتز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386064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نامه مبد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537372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پيغام خط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386064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رنامه مقص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4148280"/>
            <a:ext cx="792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3080" y="4148280"/>
            <a:ext cx="863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724280"/>
            <a:ext cx="0" cy="792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رزيابي عبارت محاسباتي با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77320" y="134136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13 + 5*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بارت محاسبا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71640" y="19890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71640" y="2517840"/>
            <a:ext cx="7197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71640" y="304632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دوتا از بالاترين عناصر پشته را با هم جمع و آن دو را از پشته بيرون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71640" y="357336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تيجه يعني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971640" y="4102200"/>
            <a:ext cx="7197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71640" y="463068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6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دوتا بالاترين عناصر پشته را در هم ضرب و آنها را بيرون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71640" y="515772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7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نتيجه يعني عد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4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ستكاري پشت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8360" y="1973160"/>
            <a:ext cx="8205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ا روي پشته قرار د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249228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حتويات مكا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301140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آدر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را روي پشته قرار 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352908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مقدار در بالاي پشته را دور بر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404820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-value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روي پشته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-valu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ير آن گذاشته و هر دو از پشته خار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565520"/>
            <a:ext cx="820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يك نسخه از مقدار بالاي پشته را بر روي پشته فشار ب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81120" y="197316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1120" y="355752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1120" y="4133880"/>
            <a:ext cx="50328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=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81120" y="298116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valu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81120" y="247824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valu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1120" y="4638600"/>
            <a:ext cx="122400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عمليات در پشته هنگام محاسبه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71640" y="1341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day := (1461*y) div 4 + (153*m + 2 ) div 5 + d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رجم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62200" y="2133720"/>
            <a:ext cx="5472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valu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14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value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62200" y="4221000"/>
            <a:ext cx="302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value 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067280" y="2133720"/>
            <a:ext cx="2736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value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916360" y="2420640"/>
            <a:ext cx="1150920" cy="33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123640" y="57340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2-14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كنترل جريان در ماشي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651640" y="1484280"/>
            <a:ext cx="266544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يين مكان پر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-324000" y="2421000"/>
            <a:ext cx="7058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يين محل پرش با عملوند دست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يين فاصله نسبي براي پرش مثبت يا منفي با عملوند دست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-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يين محل پرش با نماد هاي دستو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508720" y="4365720"/>
            <a:ext cx="3095640" cy="122400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مكان برداشتن عملو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ز بالاي پش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04000" y="2492280"/>
            <a:ext cx="71640" cy="792360"/>
          </a:xfrm>
          <a:custGeom>
            <a:avLst/>
            <a:gdLst>
              <a:gd name="textAreaLeft" fmla="*/ 0 w 71640"/>
              <a:gd name="textAreaRight" fmla="*/ 2592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164360" y="285264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94836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2-14-3-1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كنترل جريان - دستورات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162864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356000" y="1700280"/>
            <a:ext cx="39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32000" y="1700280"/>
            <a:ext cx="6696000" cy="5745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le l                                                 L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عدم تاثير در مقصد پرش ها به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332000" y="2421000"/>
            <a:ext cx="669600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o l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جراي دستور بعدي از حكمي با برچسب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75656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332000" y="3141720"/>
            <a:ext cx="6696000" cy="5745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false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ارج نمودن مقدار بالاي پشته، پرش در صورت صفر بودن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32000" y="3860640"/>
            <a:ext cx="669744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r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ارج نمودن مقدار بالاي پشته ، پرش در صورت صفر نبودن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332000" y="4581360"/>
            <a:ext cx="6696000" cy="576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وقف اجرا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فصل سوم:  تحليل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1280" y="1341360"/>
            <a:ext cx="79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Roya"/>
              </a:rPr>
              <a:t>اهداف رفتار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Roya"/>
              </a:rPr>
              <a:t>دانشجو پس  از مطالعه اين فصل با مفاهيم زير آشنا خواهد ش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آشنايي با تحليلگر لغو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عبارات و گرامر باقاع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حليلگر لغو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ماشين خودکار قطعی و غير قطعی و تبديل آنها به يکدگ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وظايف تحليل 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14240" y="16286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خواندن نمادهاي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082040" y="2276640"/>
            <a:ext cx="51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وليد دنباله اي از نشان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507840" y="285264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ثبت نشانه ها در جدول نما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-1658520" y="3429000"/>
            <a:ext cx="121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حذف توضيحات برنامه، جاي خالي و كاراكتر مربوط به سطر جد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-1058400" y="4005360"/>
            <a:ext cx="112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-  ارتباط دادن پيامهاي خطاي توليد شده كامپايلر با برنامه مب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رتباط با تجزيه كنن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35280" y="1773360"/>
            <a:ext cx="1800000" cy="1295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لغ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219640" y="1844640"/>
            <a:ext cx="1944720" cy="122400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حليل گر نحو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(تجزيه كنند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492360" y="3716280"/>
            <a:ext cx="1873440" cy="129528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جدول نم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2692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635280" y="220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6349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5219280" y="306864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276720" y="3141720"/>
            <a:ext cx="35856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600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19280" y="522936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رتباط تحليل گر لغوي با تجزيه ك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56000" y="2492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 بعدي را ب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50920" y="1197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Roya"/>
              </a:rPr>
              <a:t>نشا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8360" y="1916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برنامه مبد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2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دلايل جدايي فازهاي تحليل لغوي و تجزي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9640" y="1700280"/>
            <a:ext cx="7991640" cy="831960"/>
          </a:xfrm>
          <a:prstGeom prst="parallelogram">
            <a:avLst>
              <a:gd name="adj" fmla="val -89999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ده تر بودن طراحي دو ف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5280" y="4437000"/>
            <a:ext cx="7991640" cy="936720"/>
          </a:xfrm>
          <a:prstGeom prst="parallelogram">
            <a:avLst>
              <a:gd name="adj" fmla="val -85472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قابليت حمل كامپايلر و محدود شدن تغييرات ب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حليلگر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8360" y="2924280"/>
            <a:ext cx="7991280" cy="934920"/>
          </a:xfrm>
          <a:prstGeom prst="parallelogram">
            <a:avLst>
              <a:gd name="adj" fmla="val -86972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فزايش كارايي كامپايلر به دليل استفاده 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يانگير بين دو ف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خطاي مرحله تحليل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00000" y="1413000"/>
            <a:ext cx="727236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منطبق نبودن هيچ كدام از الگوهاي مربوط به تشخيص نشان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 زبان مبدا با پيشوندي از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940360" y="3933720"/>
            <a:ext cx="2594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شهاي پوشش خط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26920" y="3284640"/>
            <a:ext cx="5256360" cy="23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anic Mo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حذف كاراكتر اضاف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رج كاراكتر از قلم افت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ايگزيني يك كاراكتر بجاي كاراكتر غل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جابجا نمودن دو كاراكتر مجاور 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طبقه بندي كامپايلرها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341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دسته بندي كامپايلرها بر اساس چگونگي ساخت و عملي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2492280"/>
            <a:ext cx="5327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تك گذ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چند گذ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اشكال زدا 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Roya"/>
              </a:rPr>
              <a:t>Load-and-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بهينه سا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3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پوشش خطا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Panic mode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40" y="1700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buClr>
                <a:srgbClr val="84824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ساده ترين شيوه پوشش خط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39640" y="2852640"/>
            <a:ext cx="7923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buClr>
                <a:srgbClr val="84824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حذف كاراكترهاي متوالي از باقيمانده ورودي تا پيدا شدن نشان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   قابل قبول توسط تحليل گر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39640" y="4581360"/>
            <a:ext cx="792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buClr>
                <a:srgbClr val="84824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كافي بودن براي يك سيستم محاسباتي محاوره ا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3-4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تحليلگر لغوي </a:t>
            </a:r>
            <a:r>
              <a:rPr b="1" lang="ar-SA" sz="32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پياده سازي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219280" y="1484280"/>
            <a:ext cx="3251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Roya"/>
              </a:rPr>
              <a:t>روشهاي پياده ساز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443640" y="2421000"/>
            <a:ext cx="216000" cy="3384360"/>
          </a:xfrm>
          <a:custGeom>
            <a:avLst/>
            <a:gdLst>
              <a:gd name="textAreaLeft" fmla="*/ 0 w 216000"/>
              <a:gd name="textAreaRight" fmla="*/ 78120 w 21600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55640" y="2563920"/>
            <a:ext cx="554508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ex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ستفاده از توليد كننده تحليلگر لغوي مانند كامپايل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5640" y="3500280"/>
            <a:ext cx="5545080" cy="1008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شتن تحليلگر لغوي به زبانهاي متداول برنامه نوي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سيستم و خواندن رشته ورودي با تسهيلا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5640" y="4869000"/>
            <a:ext cx="5545080" cy="79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نوشتن تحليلگر لغوي به اسمبلي و مدير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صريح خواندن رشته ورو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بارا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27640" y="148428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قواعد تعر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39640" y="2205000"/>
            <a:ext cx="8139240" cy="3168720"/>
          </a:xfrm>
          <a:prstGeom prst="foldedCorner">
            <a:avLst>
              <a:gd name="adj" fmla="val 5976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عبارت باقاعده </a:t>
            </a:r>
            <a:r>
              <a:rPr b="1" lang="fa-I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زبان {</a:t>
            </a:r>
            <a:r>
              <a:rPr b="1" lang="fa-I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} (مجموعه حاوي رشته تهي) را مشخص مي نماي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بارت باقاعده اي است که زبا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(نمادي از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) را مي ساز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بارات باقاعده باشند، اجتماع، الحاق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Kel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Star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آنها هم باقاعده 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بارا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39640" y="3189240"/>
            <a:ext cx="770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ز عبارت باقاع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مجموع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{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a, ab,ba,b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توليد مي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9640" y="3813120"/>
            <a:ext cx="770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عبارت باقاع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*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كليه رشته هايي با صفر يا چن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ا توليد مي ك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39640" y="4437000"/>
            <a:ext cx="770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عبارت باقاعد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) *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رشته هايي با صفر يا چند نماد ا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ا توليد مي ك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148360" y="1413000"/>
            <a:ext cx="3313080" cy="720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356000" y="1484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گر </a:t>
            </a:r>
            <a:r>
              <a:rPr b="1" lang="fa-I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={a,b}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باشد آنگا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9640" y="2565360"/>
            <a:ext cx="7702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از عبارت باقاعده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Ub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جموعه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,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ساخته مي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3-5-1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عبارات باقاعده </a:t>
            </a:r>
            <a:r>
              <a:rPr b="1" lang="ar-SA" sz="3200" spc="-1" strike="noStrike">
                <a:solidFill>
                  <a:srgbClr val="330033"/>
                </a:solidFill>
                <a:latin typeface="Times New Roman"/>
              </a:rPr>
              <a:t>–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خواص جبري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116000" y="1844640"/>
            <a:ext cx="71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116000" y="1773360"/>
            <a:ext cx="71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348000" y="1844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763640" y="12682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19640" y="12682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وص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887640" y="2349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/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شركت پذير اس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89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/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جابجا پذير اس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80000" y="285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لحاق شركت پذير اس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392720" y="32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الحاق نسبت به  / توزيع پذي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42920" y="1989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U b = b U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234936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U ( b U c)=(a U b U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042920" y="2852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 b) c = a (b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042920" y="3357720"/>
            <a:ext cx="2305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(b U c) = a b U a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b U c) a = b a U c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116000" y="4508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* = (a U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16000" y="494172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** = a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عبارات با قاعده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</a:rPr>
              <a:t>در زبان پاسكال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16360" y="1052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باقاعده مربوط به شناس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1280" y="1557360"/>
            <a:ext cx="4680000" cy="158436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ette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A \ B \ …\ Z\ a \b\ …\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Digit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0 \ 1 \ …\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Id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letter ( letter / digit )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48000" y="306864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ريف باقاعده اعداد بي علام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4360" y="3500280"/>
            <a:ext cx="4895640" cy="2592720"/>
          </a:xfrm>
          <a:prstGeom prst="rect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\ 1\ … \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git digi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_frac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 Digits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_exponen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( + \ -\  )digits) \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gits optional_fraction_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6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جموعه هاي بي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1700280"/>
            <a:ext cx="432000" cy="3527280"/>
          </a:xfrm>
          <a:custGeom>
            <a:avLst/>
            <a:gdLst>
              <a:gd name="textAreaLeft" fmla="*/ 0 w 432000"/>
              <a:gd name="textAreaRight" fmla="*/ 155880 w 432000"/>
              <a:gd name="textAreaTop" fmla="*/ 97200 h 3527280"/>
              <a:gd name="textAreaBottom" fmla="*/ 3430080 h 35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3"/>
                  <a:pt x="10800" y="1905"/>
                </a:cubicBezTo>
                <a:lnTo>
                  <a:pt x="10800" y="9105"/>
                </a:lnTo>
                <a:cubicBezTo>
                  <a:pt x="10800" y="10058"/>
                  <a:pt x="16200" y="11010"/>
                  <a:pt x="21600" y="11010"/>
                </a:cubicBezTo>
                <a:cubicBezTo>
                  <a:pt x="16200" y="11010"/>
                  <a:pt x="10800" y="11963"/>
                  <a:pt x="10800" y="12915"/>
                </a:cubicBezTo>
                <a:lnTo>
                  <a:pt x="10800" y="19695"/>
                </a:lnTo>
                <a:cubicBezTo>
                  <a:pt x="10800" y="206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35280" y="1989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1-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ساختارهاي موازنه اي و لانه ا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924360" y="3141720"/>
            <a:ext cx="33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شته هاي تكر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43280" y="4365720"/>
            <a:ext cx="44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شته هايي براي مقايسه دو چي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22320" y="270000"/>
            <a:ext cx="770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7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گرامر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547640" y="2924280"/>
            <a:ext cx="5472360" cy="2089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48360" y="1844640"/>
            <a:ext cx="33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فرم قوانين گرامر باقاع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050920" y="3141720"/>
            <a:ext cx="136872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92360" y="3500280"/>
            <a:ext cx="309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عنصري از الفبا و پاي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غير پاي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چند گرامر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0" y="1484280"/>
            <a:ext cx="2878200" cy="1368360"/>
          </a:xfrm>
          <a:prstGeom prst="hexagon">
            <a:avLst>
              <a:gd name="adj" fmla="val 52585"/>
              <a:gd name="vf" fmla="val 11547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03640" y="1700280"/>
            <a:ext cx="216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: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S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96360" y="1916280"/>
            <a:ext cx="57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708360" y="299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55640" y="2492280"/>
            <a:ext cx="2881440" cy="1440000"/>
          </a:xfrm>
          <a:prstGeom prst="hexagon">
            <a:avLst>
              <a:gd name="adj" fmla="val 50025"/>
              <a:gd name="vf" fmla="val 11547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042920" y="2997360"/>
            <a:ext cx="252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: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b/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81200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3933720"/>
            <a:ext cx="3095640" cy="1440000"/>
          </a:xfrm>
          <a:prstGeom prst="hexagon">
            <a:avLst>
              <a:gd name="adj" fmla="val 53744"/>
              <a:gd name="vf" fmla="val 115470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4005360"/>
            <a:ext cx="568800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: 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S/cS/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/cS /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  / b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وليدكننده تحليلگر لغوي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Lex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32360" y="1125360"/>
            <a:ext cx="3673440" cy="648000"/>
          </a:xfrm>
          <a:prstGeom prst="bevel">
            <a:avLst>
              <a:gd name="adj" fmla="val 18838"/>
            </a:avLst>
          </a:prstGeom>
          <a:solidFill>
            <a:srgbClr val="e1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ش ايجاد تحليلگر توس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076720" y="2060640"/>
            <a:ext cx="323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آماده شدن پرونده اي حاوي مشخصه تحليلگر برا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435640" y="2997360"/>
            <a:ext cx="28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تبديل محتواي پرونده به برنامه در زبا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8360" y="4005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كامپايل برنامه توليدي همراه كتابخانه برنامه تحليل لغو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788000" y="5084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: برنامه تحليلگ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050920" y="2205000"/>
            <a:ext cx="122400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كامپايل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050920" y="3357720"/>
            <a:ext cx="1224000" cy="502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امپايل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050920" y="4581360"/>
            <a:ext cx="122400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8584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85840" y="486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185840" y="364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74920" y="4869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274920" y="3645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74920" y="24922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9640" y="21337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شخصه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x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76720" y="2060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x.yy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059280" y="321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4360" y="32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Lex.yy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059280" y="4365720"/>
            <a:ext cx="158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خرو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دنباله نشان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979640" y="465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9640" y="4437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ورو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516720" y="1844640"/>
            <a:ext cx="1942920" cy="93672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0200" y="3645000"/>
            <a:ext cx="1982520" cy="93636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عمليات كامپايلر</a:t>
            </a:r>
            <a:r>
              <a:rPr b="1" lang="fa-IR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0240" y="202248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Arial"/>
                <a:cs typeface="Roya"/>
              </a:rPr>
              <a:t>بخش تحل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06320" y="1876320"/>
            <a:ext cx="79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جزيه برنامه مبدا به اجزاي تشكيل دهنده ا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42100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وليد كد مياني از برنامه مبد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2960" y="3894120"/>
            <a:ext cx="23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Arial"/>
                <a:cs typeface="Roya"/>
              </a:rPr>
              <a:t>بخش سنت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789360"/>
            <a:ext cx="60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تبديل كد مياني به برنامه مقصد در زبان دي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36572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نياز به بيشترين روشهاي خا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1773360"/>
            <a:ext cx="144360" cy="1295280"/>
          </a:xfrm>
          <a:custGeom>
            <a:avLst/>
            <a:gdLst>
              <a:gd name="textAreaLeft" fmla="*/ 0 w 144360"/>
              <a:gd name="textAreaRight" fmla="*/ 101160 w 14436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3280" y="3789360"/>
            <a:ext cx="74520" cy="936720"/>
          </a:xfrm>
          <a:custGeom>
            <a:avLst/>
            <a:gdLst>
              <a:gd name="textAreaLeft" fmla="*/ 0 w 74520"/>
              <a:gd name="textAreaRight" fmla="*/ 52200 w 7452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900000" y="260280"/>
            <a:ext cx="7772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3-8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Lex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اجزاي 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692360" y="1197000"/>
            <a:ext cx="2448000" cy="576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92360" y="1916280"/>
            <a:ext cx="2448000" cy="576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قواعد ترج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692360" y="2637000"/>
            <a:ext cx="2448000" cy="576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رويه هاي كمك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005440" y="1773360"/>
            <a:ext cx="338436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 هاي برنامه مبدا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645080" y="1197000"/>
            <a:ext cx="73080" cy="1944720"/>
          </a:xfrm>
          <a:custGeom>
            <a:avLst/>
            <a:gdLst>
              <a:gd name="textAreaLeft" fmla="*/ 0 w 73080"/>
              <a:gd name="textAreaRight" fmla="*/ 26280 w 730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149800" y="4292640"/>
            <a:ext cx="338472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رتيب در متن برنامه مبدا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45080" y="3716280"/>
            <a:ext cx="73080" cy="2089080"/>
          </a:xfrm>
          <a:custGeom>
            <a:avLst/>
            <a:gdLst>
              <a:gd name="textAreaLeft" fmla="*/ 0 w 73080"/>
              <a:gd name="textAreaRight" fmla="*/ 26280 w 730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187360" y="37162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علان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70200" y="45813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واعد ترج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511640" y="537372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يه هاي كمك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341440" y="501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144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8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وليدكننده تحليلگر لغو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08720" y="2852640"/>
            <a:ext cx="287964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بخش اعلان برنا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5076720" y="1916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148360" y="3645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1280" y="1557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متغير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16000" y="29242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علان ثوابت صري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0920" y="4149720"/>
            <a:ext cx="47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عاريف باقاعده (اجزاي عبارات باقاعده مورد استفاده در قواعد ترج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4788000" y="31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4427640" y="1125360"/>
            <a:ext cx="4176720" cy="648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خش قوانين ترجمه بلافاصله پس ا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659640" y="1773360"/>
            <a:ext cx="433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084360" y="1773360"/>
            <a:ext cx="358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588000" y="2276640"/>
            <a:ext cx="1656000" cy="79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بارت باقاع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59280" y="2276640"/>
            <a:ext cx="1656000" cy="79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مناس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6084720" y="3068640"/>
            <a:ext cx="10051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 flipV="1">
            <a:off x="5940360" y="3068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3850920" y="2708280"/>
            <a:ext cx="2305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213372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1         : {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1280" y="2565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P2         : {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84360" y="3068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: {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عمل معناي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11280" y="3646440"/>
            <a:ext cx="863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900000" y="260280"/>
            <a:ext cx="7772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3-8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 -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  <a:ea typeface="Roya"/>
              </a:rPr>
              <a:t>Lex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  <a:cs typeface="Roya"/>
              </a:rPr>
              <a:t>اجزاي 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788000" y="4365720"/>
            <a:ext cx="360036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C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رويه هاي كمك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2484360" y="3789000"/>
            <a:ext cx="10778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56400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76360" y="4797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ورد استفاده دراجراي اع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اشين خودكار متناه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5280" y="1341360"/>
            <a:ext cx="80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ابزاري براي تشخيص ساختارهاي موجود زبان در دنباله ورودي از نشانه ها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Roya"/>
              </a:rPr>
              <a:t>و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پذيرفتن يا نپذيرفتن دنباله كاراكترهاي ورو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46160" y="3860640"/>
            <a:ext cx="38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نواع ماشين هاي خودك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42920" y="3284640"/>
            <a:ext cx="446580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042920" y="4365720"/>
            <a:ext cx="446580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651640" y="3213000"/>
            <a:ext cx="288720" cy="2087640"/>
          </a:xfrm>
          <a:custGeom>
            <a:avLst/>
            <a:gdLst>
              <a:gd name="textAreaLeft" fmla="*/ 0 w 288720"/>
              <a:gd name="textAreaRight" fmla="*/ 202680 w 28872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042920" y="3500280"/>
            <a:ext cx="44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ماشين خودكار متناهي قطع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443700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- ماشين خودكار متناهي غير قطعي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F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1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اشين خودكار قطعي</a:t>
            </a: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916360" y="3284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= (Q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, q0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2987280" y="3716280"/>
            <a:ext cx="622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3203280" y="2924280"/>
            <a:ext cx="647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03640" y="3716280"/>
            <a:ext cx="274680" cy="9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364000" y="3645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76720" y="386064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يرمجموعه اي ا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Q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به نام حالات نه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492360" y="4584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حالت ابتدايي يا شروع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79280" y="4437000"/>
            <a:ext cx="34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مجموعه متناهي از حالات ما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87640" y="1557360"/>
            <a:ext cx="518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يك مدل رياضي است متشكل از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ت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26920" y="256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الفباي 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211640" y="263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ابع گذ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4572000" y="2997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2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ماشين خودكار غير قطعي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47640" y="1413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Roya"/>
              </a:rPr>
              <a:t>DFA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Roya"/>
              </a:rPr>
              <a:t> اي كه مي توان از هر حالت با عناصر ورودي يكسان به حالات مختلفي رس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619280" y="2637000"/>
            <a:ext cx="6048360" cy="2519280"/>
          </a:xfrm>
          <a:prstGeom prst="bevel">
            <a:avLst>
              <a:gd name="adj" fmla="val 420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981080" y="364500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659640" y="443700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9640" y="364500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59640" y="292428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92360" y="364500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148360" y="378936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629080" y="3932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724360" y="4292640"/>
            <a:ext cx="79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796000" y="40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651640" y="3357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34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12000" y="357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012000" y="414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321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27280" y="458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8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DFA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116000" y="1628640"/>
            <a:ext cx="1871640" cy="1224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87280" y="184464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/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 /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05928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916360" y="1268280"/>
            <a:ext cx="93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تبديل به ماشين قط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924360" y="1341360"/>
            <a:ext cx="4321080" cy="1727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213080" y="2349360"/>
            <a:ext cx="432000" cy="43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796000" y="2349360"/>
            <a:ext cx="431640" cy="43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380360" y="2349360"/>
            <a:ext cx="431640" cy="43200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716360" y="2565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300720" y="256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96000" y="1628640"/>
            <a:ext cx="504720" cy="72072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140360" y="1557360"/>
            <a:ext cx="576000" cy="79200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140360" y="15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78800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4508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796000" y="1486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900000" y="400536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187280" y="357336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شتقا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51280" y="357336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محاس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867280" y="357336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رشته پردازش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71640" y="4005360"/>
            <a:ext cx="25923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203640" y="4076640"/>
            <a:ext cx="280836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, aab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S , ab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,b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]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300720" y="4005360"/>
            <a:ext cx="316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227640" y="558972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پذيرفته توسط ما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ز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77080" y="1413000"/>
            <a:ext cx="144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Roya"/>
              </a:rPr>
              <a:t>زبان: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76720" y="1268280"/>
            <a:ext cx="2448000" cy="792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35640" y="1484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a U b)* a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26920" y="2781360"/>
            <a:ext cx="7201080" cy="187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067280" y="3284640"/>
            <a:ext cx="57600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340000" y="3284640"/>
            <a:ext cx="57636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80000" y="3284640"/>
            <a:ext cx="57636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091280" y="3284640"/>
            <a:ext cx="576360" cy="57600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6192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59280" y="35733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716360" y="357336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2764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20364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13080" y="2638440"/>
            <a:ext cx="503280" cy="71928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716360" y="3141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83280" y="31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1128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04292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شرو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411280" y="3789360"/>
            <a:ext cx="503280" cy="71928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3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تبد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ب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DFA</a:t>
            </a:r>
            <a:r>
              <a:rPr b="1" lang="fa-IR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92360" y="1557360"/>
            <a:ext cx="6480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تعريف : هبستگي لامبدا ي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ure (q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به صورت بازگش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26920" y="1989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4292640"/>
            <a:ext cx="8172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همبستگي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j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در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-closure (qi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ست اگر بتواند با تكرار متناهي از مرحله بازگشت بدست آي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762800" y="2421000"/>
            <a:ext cx="35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پايه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-closure (q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68360" y="321300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مرحله بازگشت: 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يك عنصر از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closure(qj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باشد و ا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(gj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 آنگاه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q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-closure (qj)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0033"/>
                </a:solidFill>
                <a:latin typeface="Times New Roman"/>
              </a:rPr>
              <a:t>مثال همبستگي لامبدا</a:t>
            </a: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9640" y="1197000"/>
            <a:ext cx="3313080" cy="3311640"/>
          </a:xfrm>
          <a:prstGeom prst="ellipse">
            <a:avLst/>
          </a:prstGeom>
          <a:solidFill>
            <a:srgbClr val="e1e0c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114560" y="2349360"/>
            <a:ext cx="433080" cy="43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63640" y="3357720"/>
            <a:ext cx="433440" cy="431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556000" y="2349360"/>
            <a:ext cx="433440" cy="43200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619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266920" y="2852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258920" y="285264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63640" y="220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16000" y="1630440"/>
            <a:ext cx="431640" cy="71892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04292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556000" y="1628640"/>
            <a:ext cx="431640" cy="72072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835280" y="3789360"/>
            <a:ext cx="360360" cy="79200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9856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33200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067280" y="3716280"/>
            <a:ext cx="403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16360" y="3429000"/>
            <a:ext cx="18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7672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45164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30072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780000" y="3357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حال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200480" y="38606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213080" y="4581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200480" y="53006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51280" y="378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, q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651640" y="5229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227640" y="450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22764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636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003640" y="4508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308720" y="3789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003640" y="5157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308720" y="4365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1-5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يستم پردازش زبان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360" y="1557360"/>
            <a:ext cx="3467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Roya"/>
              </a:rPr>
              <a:t>اجزاي سيست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2349360"/>
            <a:ext cx="41752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959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پيش پردازش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Clr>
                <a:srgbClr val="959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كامپايل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Clr>
                <a:srgbClr val="959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اسمبل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buClr>
                <a:srgbClr val="959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Roya"/>
              </a:rPr>
              <a:t> باركننده و ويرايشگر الح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بد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به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D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26920" y="1773360"/>
            <a:ext cx="433440" cy="431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547640" y="2708280"/>
            <a:ext cx="433440" cy="431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268360" y="1773360"/>
            <a:ext cx="433440" cy="43164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332000" y="206064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2050920" y="2276640"/>
            <a:ext cx="43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971640" y="2276640"/>
            <a:ext cx="50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7636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26920" y="1125360"/>
            <a:ext cx="432000" cy="71928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5564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268360" y="1052640"/>
            <a:ext cx="358920" cy="72072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619280" y="3141000"/>
            <a:ext cx="360360" cy="64764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11280" y="24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11600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268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321920" y="9795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132000" y="2349360"/>
            <a:ext cx="1081080" cy="0"/>
          </a:xfrm>
          <a:prstGeom prst="line">
            <a:avLst/>
          </a:prstGeom>
          <a:ln w="57240">
            <a:solidFill>
              <a:srgbClr val="95934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572000" y="2276640"/>
            <a:ext cx="503280" cy="43164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724360" y="1125360"/>
            <a:ext cx="144000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, 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005440" y="1486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788000" y="177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00544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284720" y="170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4716000" y="486720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125800" y="378792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125800" y="4795920"/>
            <a:ext cx="5032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635280" y="3789360"/>
            <a:ext cx="1513080" cy="43164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, 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701800" y="4076640"/>
            <a:ext cx="71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34144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70180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29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437080" y="4508640"/>
            <a:ext cx="1152720" cy="50472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,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570560" y="55148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پذير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140360" y="5011560"/>
            <a:ext cx="502920" cy="5032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005440" y="4148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356000" y="42195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861080" y="494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140360" y="43639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148360" y="4003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58980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778200" y="55148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500720" y="3284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580000" y="6165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995640" y="2997360"/>
            <a:ext cx="792360" cy="79200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0" y="3859200"/>
            <a:ext cx="647640" cy="64764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40360" y="5373000"/>
            <a:ext cx="502920" cy="64764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627280" y="5157720"/>
            <a:ext cx="3600360" cy="863640"/>
          </a:xfrm>
          <a:custGeom>
            <a:avLst/>
            <a:gdLst/>
            <a:ahLst/>
            <a:rect l="l" t="t" r="r" b="b"/>
            <a:pathLst>
              <a:path w="2268" h="839">
                <a:moveTo>
                  <a:pt x="2268" y="0"/>
                </a:moveTo>
                <a:cubicBezTo>
                  <a:pt x="2049" y="396"/>
                  <a:pt x="1830" y="793"/>
                  <a:pt x="1452" y="816"/>
                </a:cubicBezTo>
                <a:cubicBezTo>
                  <a:pt x="1074" y="839"/>
                  <a:pt x="166" y="249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 flipV="1">
            <a:off x="2627280" y="5083200"/>
            <a:ext cx="1440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059280" y="4795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25920" y="457992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5564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b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 rot="5205000">
            <a:off x="1544760" y="4651560"/>
            <a:ext cx="431640" cy="863640"/>
          </a:xfrm>
          <a:custGeom>
            <a:avLst/>
            <a:gdLst/>
            <a:ahLst/>
            <a:rect l="l" t="t" r="r" b="b"/>
            <a:pathLst>
              <a:path w="725" h="60">
                <a:moveTo>
                  <a:pt x="0" y="60"/>
                </a:moveTo>
                <a:cubicBezTo>
                  <a:pt x="325" y="30"/>
                  <a:pt x="650" y="0"/>
                  <a:pt x="725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732720" y="2349360"/>
            <a:ext cx="0" cy="1008360"/>
          </a:xfrm>
          <a:prstGeom prst="line">
            <a:avLst/>
          </a:prstGeom>
          <a:ln w="57240">
            <a:solidFill>
              <a:srgbClr val="95934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498920" y="1268280"/>
            <a:ext cx="504720" cy="432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اخت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227640" y="1484280"/>
            <a:ext cx="2233800" cy="79236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796000" y="1557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قاعده اول = اجتم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11280" y="2637000"/>
            <a:ext cx="64800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411280" y="371628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300720" y="321300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859280" y="3716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859280" y="2637000"/>
            <a:ext cx="64764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042920" y="314172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619280" y="299700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580000" y="292428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5928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05928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5580000" y="3716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42764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427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619280" y="371628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492360" y="2492280"/>
            <a:ext cx="792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492360" y="3716280"/>
            <a:ext cx="792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116000" y="472428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 (M2) U L (M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جتماع دو عبار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64000" y="1484280"/>
            <a:ext cx="3097440" cy="79236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364000" y="1700280"/>
            <a:ext cx="309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جتماع دو عبارت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U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971640" y="1989000"/>
            <a:ext cx="64908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971640" y="3068640"/>
            <a:ext cx="649080" cy="5778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195640" y="198900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195640" y="3068640"/>
            <a:ext cx="647640" cy="57780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619280" y="22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619280" y="342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20720" y="29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2108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994200" y="4076640"/>
            <a:ext cx="64908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236000" y="4221000"/>
            <a:ext cx="64908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722920" y="36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651640" y="515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875640" y="3860640"/>
            <a:ext cx="502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6802560" y="472392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500720" y="3860280"/>
            <a:ext cx="5727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498920" y="4653000"/>
            <a:ext cx="43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72472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653080" y="47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003640" y="3357720"/>
            <a:ext cx="64944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227640" y="3357720"/>
            <a:ext cx="648000" cy="576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930920" y="4797360"/>
            <a:ext cx="649080" cy="5778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154560" y="4869000"/>
            <a:ext cx="648000" cy="5778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rot="1677600">
            <a:off x="3132000" y="3357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اخت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27640" y="1484280"/>
            <a:ext cx="2233800" cy="79236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372360" y="1557360"/>
            <a:ext cx="187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Times New Roman"/>
                <a:cs typeface="Roya"/>
              </a:rPr>
              <a:t>قاعده دوم= الح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044720" y="314172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716360" y="314172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234200" y="306864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492360" y="314172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43384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76364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059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80256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195640" y="3068640"/>
            <a:ext cx="792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867280" y="3068640"/>
            <a:ext cx="792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28472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124000" y="458136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حا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 ( m1 ) , L ( M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يا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L(M1) L (M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الحاق دو عبار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58920" y="242100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780000" y="2421000"/>
            <a:ext cx="576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482920" y="2421000"/>
            <a:ext cx="57636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2421000"/>
            <a:ext cx="57636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90656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427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429080" y="234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906560" y="22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69840" y="457992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778200" y="457992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218200" y="4579920"/>
            <a:ext cx="57600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484360" y="4581360"/>
            <a:ext cx="57636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617840" y="486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97480" y="486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13200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644720" y="4365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76364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rot="5400000">
            <a:off x="2915280" y="3645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gradFill rotWithShape="0">
            <a:gsLst>
              <a:gs pos="0">
                <a:srgbClr val="cccc99"/>
              </a:gs>
              <a:gs pos="50000">
                <a:srgbClr val="5e5e46"/>
              </a:gs>
              <a:gs pos="100000">
                <a:srgbClr val="cc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867280" y="1341360"/>
            <a:ext cx="2667240" cy="64764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b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, b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الحاق دو عبار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3-9-4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ساخت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 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724360" y="1484280"/>
            <a:ext cx="2737080" cy="72072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0033"/>
                </a:solidFill>
                <a:latin typeface="Arial"/>
                <a:cs typeface="Roya"/>
              </a:rPr>
              <a:t>قاعده سوم-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  <a:ea typeface="Roya"/>
              </a:rPr>
              <a:t>kelin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700360" y="3500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826920" y="350028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93080" y="350028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48360" y="3500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547640" y="3789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419640" y="3787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714920" y="3787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851280" y="3427560"/>
            <a:ext cx="792000" cy="649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اش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940360" y="3789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403280" y="2565360"/>
            <a:ext cx="5832720" cy="100800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rot="11201400">
            <a:off x="3287880" y="4008240"/>
            <a:ext cx="2023920" cy="64440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484360" y="501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(M1)   kelin st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(M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كلين استار يك عبار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00360" y="3500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26920" y="350028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093080" y="350028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148360" y="350028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47640" y="3789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348000" y="3787920"/>
            <a:ext cx="172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940360" y="3789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403280" y="2565360"/>
            <a:ext cx="5761080" cy="107964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rot="11201400">
            <a:off x="3287880" y="4008240"/>
            <a:ext cx="2023920" cy="64440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3528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08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867280" y="1484280"/>
            <a:ext cx="2667240" cy="647640"/>
          </a:xfrm>
          <a:prstGeom prst="roundRect">
            <a:avLst>
              <a:gd name="adj" fmla="val 16667"/>
            </a:avLst>
          </a:prstGeom>
          <a:solidFill>
            <a:srgbClr val="b7b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*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Roya"/>
              </a:rPr>
              <a:t>a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Roya"/>
              </a:rPr>
              <a:t>كلين استار عبار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شك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1413000"/>
            <a:ext cx="2881440" cy="100800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Roy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(a U b)*ab 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Roya"/>
              </a:rPr>
              <a:t>زب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435640" y="1628640"/>
            <a:ext cx="64908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435640" y="2419200"/>
            <a:ext cx="649080" cy="5781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659640" y="162864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6659640" y="2419200"/>
            <a:ext cx="647640" cy="5781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83280" y="19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083280" y="27795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084720" y="23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083280" y="148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041480" y="4362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120760" y="4290840"/>
            <a:ext cx="64800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929120" y="429084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369120" y="4290840"/>
            <a:ext cx="647640" cy="57636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635280" y="4292640"/>
            <a:ext cx="647640" cy="57636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768760" y="45799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648400" y="457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352760" y="4579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794200" y="4075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840040" y="414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596360" y="378936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596360" y="3645000"/>
            <a:ext cx="86328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شك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451640" y="1700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451640" y="1557360"/>
            <a:ext cx="863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826920" y="1989000"/>
            <a:ext cx="13687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Roy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Roya"/>
              </a:rPr>
              <a:t>a U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Roya"/>
              </a:rPr>
              <a:t>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843280" y="206064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156360" y="2205000"/>
            <a:ext cx="504720" cy="50472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076720" y="2781360"/>
            <a:ext cx="5050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851280" y="278136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924360" y="134136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148360" y="134136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572000" y="155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500720" y="306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724360" y="177336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5651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419640" y="1773360"/>
            <a:ext cx="50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348000" y="2565360"/>
            <a:ext cx="432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573800" y="119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502160" y="2637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667640" y="3429000"/>
            <a:ext cx="863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069920" y="4365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340000" y="458136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236000" y="4508640"/>
            <a:ext cx="504720" cy="504720"/>
          </a:xfrm>
          <a:prstGeom prst="ellipse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508720" y="508464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356000" y="5084640"/>
            <a:ext cx="50508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356000" y="3860640"/>
            <a:ext cx="50508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203640" y="458136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003640" y="4076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932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084720" y="4221000"/>
            <a:ext cx="358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012000" y="501336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851280" y="4292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51280" y="494172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0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00508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804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300720" y="450864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580000" y="3933720"/>
            <a:ext cx="50472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91636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rot="11201400">
            <a:off x="3561480" y="5160600"/>
            <a:ext cx="2737080" cy="78264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6300720" y="5013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020000" y="436572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771640" y="3645000"/>
            <a:ext cx="4608720" cy="86364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مثال تشكيل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NFA</a:t>
            </a:r>
            <a:r>
              <a:rPr b="1" lang="fa-IR" sz="3600" spc="-1" strike="noStrike">
                <a:solidFill>
                  <a:srgbClr val="330033"/>
                </a:solidFill>
                <a:latin typeface="Times New Roman"/>
              </a:rPr>
              <a:t> از عبارات باقاعده</a:t>
            </a:r>
            <a:endParaRPr b="1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451640" y="1700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مرحله 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Roy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0606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 /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)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Roy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39640" y="3573360"/>
            <a:ext cx="50508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شرو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500720" y="364500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916360" y="414972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052720" y="414972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052720" y="306864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260360" y="3573360"/>
            <a:ext cx="505080" cy="50508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629080" y="3284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55600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492360" y="335772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419640" y="4076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1692360" y="342900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692360" y="400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629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55744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3564000" y="414936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708360" y="364500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987640" y="3068640"/>
            <a:ext cx="50472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04292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55640" y="2708280"/>
            <a:ext cx="3672000" cy="86508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11201400">
            <a:off x="1334520" y="4152960"/>
            <a:ext cx="2374920" cy="915840"/>
          </a:xfrm>
          <a:custGeom>
            <a:avLst/>
            <a:gdLst/>
            <a:ahLst/>
            <a:rect l="l" t="t" r="r" b="b"/>
            <a:pathLst>
              <a:path w="3674" h="635">
                <a:moveTo>
                  <a:pt x="0" y="635"/>
                </a:moveTo>
                <a:cubicBezTo>
                  <a:pt x="488" y="317"/>
                  <a:pt x="976" y="0"/>
                  <a:pt x="1588" y="0"/>
                </a:cubicBezTo>
                <a:cubicBezTo>
                  <a:pt x="2200" y="0"/>
                  <a:pt x="3326" y="529"/>
                  <a:pt x="3674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284720" y="3500280"/>
            <a:ext cx="35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292720" y="3645000"/>
            <a:ext cx="5396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093080" y="3645000"/>
            <a:ext cx="5410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956720" y="3645000"/>
            <a:ext cx="54108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56360" y="3645000"/>
            <a:ext cx="541440" cy="504720"/>
          </a:xfrm>
          <a:prstGeom prst="ellipse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830920" y="393228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7667640" y="39333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236000" y="414972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Roya"/>
              </a:rPr>
              <a:t>پذيرش نه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732720" y="393372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66908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724360" y="35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Roy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21164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00364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7:33:54Z</dcterms:created>
  <dc:creator>Your User Name</dc:creator>
  <dc:description/>
  <dc:language>en-US</dc:language>
  <cp:lastModifiedBy>Your User Name</cp:lastModifiedBy>
  <dcterms:modified xsi:type="dcterms:W3CDTF">2006-10-17T17:34:58Z</dcterms:modified>
  <cp:revision>1</cp:revision>
  <dc:subject/>
  <dc:title>اصول طراحي کامپايلر</dc:title>
</cp:coreProperties>
</file>