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0FE-D631-4BEA-A4E8-E4FB1D0C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5CD-AA81-4510-9E5A-3CBFAA2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62C-1C3D-4A9B-8DA7-817CAC24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ECB-29C7-4830-8589-F729DF6D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39B-E166-4BF4-B477-DF13CDC4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1FFB-7E32-4FB8-B7BB-517EB931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6F6-B0A2-456C-96C8-A3D3EE10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DBB-C942-4F3E-AF1C-129851A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953-A64D-4F2E-BB81-330129F0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534-A1C3-4B66-B89B-A99D416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8DF8-2870-4F5D-B7D2-98FD52F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C6A-0252-459F-8720-CCF6D58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0273-F19D-4159-AFDD-66C31A1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4F6-B542-4BFA-8284-41CE06A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B9E-B072-423A-8A57-64BF507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6E09-E81B-4E61-945A-6714F172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88A-8A07-4902-8362-4E39A38A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18F-B29D-47DA-BAB3-C0A8C824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984-E50A-435D-A9CD-82EB80D2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1B6-7AEA-4223-A1DB-010F21E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CBC-6904-4D0B-9345-C385CC4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AEE-2BE5-423E-9A85-C18651A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9B5-34FD-4CF6-AEDA-43CE793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36E-D8A6-4CDC-9662-D462911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471-8A9F-4C50-9B70-CACCEC39EF1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A4B-A312-48B4-8BEE-409CACF7313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438640" cy="101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1600" y="3276720"/>
            <a:ext cx="2209680" cy="920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0400" y="2133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  <a:cs typeface="Tahoma"/>
              </a:rPr>
              <a:t>مقایسه ای بر متدولوژی های ساختیافته و شی گ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6576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مهندسی نرم افزار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، دکتر کاوی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پویا روح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9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9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9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9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چطور یک متدولوژی مناسب پروژه مان انتخاب کنیم 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انتخاب یک متدولوژی مناسب برای پروژه نرم افزاری به فاکتورهای زیادی بستگی دارد از جمله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هدف – نوع نرم افزار نهای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ندازه نرم افزار نهای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فعالیت هایی که در طول پروژه انجام خواهد گرف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ولی در نهایت با توجه به فاکتورهای متفاوت می توان یکی از متدولوژی ها و یا ترکیبی از دو یا چند متدولوژی را مورد استفاده قرار داد 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ساختیافت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رواج روش های ساختیافته از اواخر دهه 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1960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در این متدولوژی ها هم تحلیل ها ساختمندند ، هم سیستم ها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ستفاده از مفهوم سیستم های ماجولار – تفکیک یک سیستم به سیستم های کوچک تر و نسبتا مستقل از بالا به پایی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ساختیافت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مشکلات اصلی متدولوژی های ساختیافته :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پیچیدگی گذر از تحلیل به طراح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پیچیدگی گذر از طراحی به پیاده سازی (نگاشت به کد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عدم تاکید بر قابلیت استفاده مجدد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Usability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شی گر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یده روش های شی گرا در سال 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1980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مطرح ش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در روش های شی گرا ، از ابتدا اشیاء مشخصی ایجاد می شوند که عملیات مختلف در مراحل مختلف (تحلیل ، طراحی و ...) بر روی این اشیا انجام می گیرن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شی گرا مجموعه ای از تعامل اشیا هستن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در این روش ها مشکل پیچیدگی گذرها را نداری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قابلیت استفاده مجدد از اشیا در پروژه ها و سیستم های دیگ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شی گر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یکی از دسته بندی های مرسوم متدولوژی های شی گرا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اولیه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eminal Methodology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Shlaer-Mellor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Coad-Youdon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RDD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Booch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OMT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OSA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OOSE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BON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 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Hodge-Mock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Fusion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Syntropy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مجتمع شده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tegrated Methodology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fa-IR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OPM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Catalysis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OPEN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RUP/USDP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EUP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FOOM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چابک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gile Methodology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DSDM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SCRUM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XP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ASD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Xd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Crystal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، 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FDD</a:t>
            </a:r>
            <a:r>
              <a:rPr b="0" lang="en-US" sz="1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fa-IR" sz="1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ساختار کل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دارای دو بعد است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محور افقی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- بیانگر زمان است . نشاندهنده جنبه پویای متدولوژ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محور عمودی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- بیانگر ترتیب منطقی فعالیت ها است . نشاندهنده جنبه ایستای متدولوژ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5562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ویژگی های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توسعه ی نرم افزار مبتنی بر تکرار (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terative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دیریت نیازمندی ها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ستفاده از معمار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ponent-B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دلسازی بصری نرم افزار (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sual Modeling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کنترل مستمر کیفی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دیریت تغییرات برای نرم افزا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5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اهداف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: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فراهم آوردن زبان مدلسازی بصری و گوی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فراهم آوردن مکانیزم های توسعه ، برای بسط مفاهیم اساس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ستقلال از زبانهای برنامه نویسی خاص و فرآیندهای توسعه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فراهم آوردن پایه و اصولی رسمی برای درک زبان مدلساز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تشویق به رشد بازار ابزا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حساسیت و پشتیبانی از مفاهیم توسعه ی سطح بالاتر نظیر : همکاری ها ، چهارچوب ها ، الگوها ، اجزا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  <a:cs typeface="Tahoma"/>
              </a:rPr>
              <a:t>مجتمع سازی بهترین تجربیات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5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فازهای یک پروژه در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ception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( آغازین ) :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ایجاد شناخت اولیه از صورت مساله ، شناخت و مدل کردن کلیات سیستم موجود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laboration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( جزئیات ): 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تشخیص و مستند کردن جزئیات مدل سیستم موجود ، دقیق کردن نیازمندیها ، تحلیل و طراحی کلی سیستم جدید که معمولا در طی دو چرخه انجام می گیر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truction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( ساخت ):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توسعه ی سیستم نرم افزاری بر اساس سیستم طراحی شده ی جدید در طی چرخه های متعد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ransition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( انتقال ):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انتقال از سیستم قدیم به جدید شامل انتقال اطلاعات و گردش کار ، نصب کامل سیستم ها و آموزش کارکنا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طرح ریزی فازها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همه ی فازها در میزان تاثیر و زمان بندی مساوی نیستند . اگرچه این تفاوت ها به پروژه بستگی دارد ، یک چرخه توسعه ی ابتدایی برای یک پروژه با سایز متوسط باید بر طبق توزیع زمانبندی و تاثیر جدول زیر پیش رود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276880" cy="103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133720" y="4343400"/>
            <a:ext cx="441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5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درباره چه چیزی 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قدمه – مشکل واژگان و مفاهی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تعریف متدولوژ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یک دسته بندی متداول از متدولوژی ه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نحوه انتخاب یک متدولوژی مناس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ساختیافته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شی گرا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آشنایی با متدولوژی شی گرا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آشنایی با متدولوژی ساختیافت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قایسه بین متدولوژ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و متدولوژ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شی گرا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14440" y="1752480"/>
            <a:ext cx="4452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 algn="r" rtl="1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6592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فعالیت های انجام شده در هر یک از فازها :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6592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مهندسی امور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usiness Modeling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نیازها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quirements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تحلیل و طراح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nalysis &amp; Design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پیاده ساز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mplementation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آزمو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est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کنترل تغییرات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figuration &amp; Change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کنترل پروژ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ject Management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محیط عملیات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vironment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-56592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گستر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65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ساختیافت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Verdana"/>
                <a:cs typeface="Tahoma"/>
              </a:rPr>
              <a:t>این متدولوژی دارای محدودیت هایی ( حداکثر موجودیت های خارجی ، 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12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 موجودیت ) می باشد و به همین دلیل برای تحلیل سیستم های بزرگ از این نوع متدولوژی استفاده نمی شو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Verdana"/>
                <a:cs typeface="Tahoma"/>
              </a:rPr>
              <a:t>مستندات این متدولوژی بسیار زیاد می باشد</a:t>
            </a:r>
            <a:r>
              <a:rPr b="0" lang="fa-IR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594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ساختیافت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فازهای یک پروژه در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  <a:cs typeface="Tahoma"/>
              </a:rPr>
              <a:t>امکان سنج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  <a:cs typeface="Tahoma"/>
              </a:rPr>
              <a:t>تحلیل نیازمندیه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  <a:cs typeface="Tahoma"/>
              </a:rPr>
              <a:t>طراحی منطق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Verdana"/>
                <a:cs typeface="Tahoma"/>
              </a:rPr>
              <a:t>طراحی فیزیک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ساختیافت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r" rtl="1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دیاگرام گردش داده ها (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F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خلاصه ی عملکرد سیست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مشکلات و نیازمندیها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دیاگرام متن منطق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دیاگرام منطقی گردش داده ها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طراحی پایگاه داد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طراحی منوی برنام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طراحی فرم ورود داده ها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شرح پردازه های جزئ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فعالیت های انجام شده در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1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جمع آوری فرم های پروژ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تهیه ی سناریو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تقاضای سیستم مکانیز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زمانبند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دیاگرام متن (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text Diagram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شرح موجودیت های خارج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شرح خطوط جریان داد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دیاگرام گردش مستندات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قایسه بین متدولوژ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سیستم از سه دیدگاه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وظیفه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،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ساختار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و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رفتار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مورد بررسی قرار می گیر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تمام اشیاء موجود در سیستم به صورت یکپارچه مدل می شون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به کل سیستم نگاه می کنیم و بعد از روی نیازهای سیستم به تحلیل و طراحی سیستم می پردازیم ؛ در این روش تا رسیدن به نیازهای واقعی کاربر ، مسیر طولانی شناخت سیستم و تبدیل آن به نیازهای منطقی را طی می نمایی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توجه تحلیلگر به نیازهای کاربر می باشد و درخواست او از سیستم مورد بررسی قرار می گیر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روش های تبدیل مرحله ی تحلیل نیازمندیها به طراحی منطقی دشوار و غیر استاندارد می باشد . در این متدولوژی ، اینکه هر موجودیت می تواند در چندین وظیفه نقش داشته باشد ، باعث پیچیدگی کار تحلیل و پایین آمدن قابلیت استفاده ی مجدد از سیستم می گردد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- در متدولوژ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این مشکل با استفاده از قابلیت های برنامه نویس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bject Oriented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تا حدود زیادی مرتفع گردیده است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قایسه بین متدولوژ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- متدولوژی های ساختیافته از دیدگاه های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Verdana"/>
                <a:cs typeface="Tahoma"/>
              </a:rPr>
              <a:t>وظایف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 ،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Verdana"/>
                <a:cs typeface="Tahoma"/>
              </a:rPr>
              <a:t>ساختار 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  <a:cs typeface="Tahoma"/>
              </a:rPr>
              <a:t>، و </a:t>
            </a:r>
            <a:r>
              <a:rPr b="0" lang="fa-IR" sz="1600" spc="-1" strike="noStrike" u="sng">
                <a:solidFill>
                  <a:srgbClr val="000000"/>
                </a:solidFill>
                <a:uFillTx/>
                <a:latin typeface="Verdana"/>
                <a:cs typeface="Tahoma"/>
              </a:rPr>
              <a:t>رفتار 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 مسائل را مورد بررسی قرار می دهن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Tahoma"/>
              </a:rPr>
              <a:t>        - متدولوژی های شی گرا هر چند مبتنی بر شناخت اشیا هستند اما از سایر دیدگاه ها نیز بعضا به مسائل می پردازن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- با توجه به اینکه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از دیدگاه داده ای (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-Centric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) سیستم را شناسایی می کند ، یشتر توجه خود را به توابعی از نوع به روزرسانی  و پرس و جو در بانک اطلاعاتی متمرکز می نمای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- در حالی که دیاگرام توابع پرس و جو و طراحی فیزیکی داده ها با توجه به وجود بانک های شناخته شده و قابلیت های زبان های  ویژوال بیش از اینکه کمک یار برنامه نویس باشند باعث شلوغی کار طراحی می شون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در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مراحل اولیه ی چرخه حیات یعنی از مراحل امکان سنجی تا مرحله طراحی به طور کامل پشتیبانی شده ، اما مراحل ساخت ، تولید و نگهداری به طور جزئی پشتیبانی می گردد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مقایسه بین متدولوژ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UP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Tahoma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در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SADM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با توجه به عدم ارائه ی معیارهای مشخص برای دسته بندی توابع ، ماژول سازی برنامه سلیقه ای می شو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- درخواست های سیستم در طول پروژه چندین بار تغییر خواهد کرد ، لذا سیستمی که از روش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-Centric</a:t>
            </a: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استفاده می کند ، هر چند می تواند به آسانی تغییر در پایگاه داده ها را مدیریت نماید ، اما اجرای تغییرات در قوانین تجاری یا رفتار سیستم آنقدر آسان نیست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- با متدهای شی گرا ، هم بر اطلاعات و هم بر رفتار متمرکز می شویم . با متدهای شی گرا ، برنامه را به قطعات بسیار کوچک یا آبجکت هایی تقسیم می کنیم که تا اندازه ای مستقل از یکدیگر باشند و به آنها به عنوان ساختمانی از بلوک ها نگاه می کنیم</a:t>
            </a:r>
            <a:r>
              <a:rPr b="0" lang="fa-I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438640" cy="1016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371600" y="3276720"/>
            <a:ext cx="2209680" cy="920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0" y="3657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با تشکر – فروردین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1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مشکل واژگان و مفاهیم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عنای واژه های کلیدی نرم افزار ممکن است از متنی به متن دیگر متفاوت باش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اکثرا این اشتباه پیش می آید که بعضی ها متدولوژی را به جای روش و یا روش را به جای ابزار و یا بالعکس به کار می برن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متدولوژی یعنی چه 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، روش شناسی ، و فرا روش همه یک مفهوم یکسانند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: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مجموعه ای از روش ها ، فنون و ابزارهای تحلیل و طراحی سیستم که در چهارچوب یک انگاره مدلسازی مبتنی بر یک الگوی مفهومی برای ساماندهی روند توسعه سیستم ها به روشی نظام مند به کار می رو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فرآیند نرم افزار :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یکسری مراحل قابل پیش بینی و نقشه مسیری است که به ما کمک می کند تا نتایجی را در زمان معین و با کیفیت بالا ایجاد کنیم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آیا متدولوژی و فرآیند نرم افزار دو مفهوم یکسانند 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دسته بندی متدولوژی ه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یک دسته بندی متداول از متدولوژی ها به این صورت است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مبتنی بر پرداز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مبتنی بر داده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روش های نمونه ساز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دسته بندی متدولوژی ه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مبتنی بر پرداز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طراحی ساختیافت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رو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ourdon-Constantine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تحلیل ساختیافت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رو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Marco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تحلیل ساختیافته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رو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ne-Sarson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SM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ourdon System Metho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دسته بندی متدولوژی ه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مبتنی بر داده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مهندسی اطلاعات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formation Engineering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رو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artin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های تحلیل شی گرا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O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 جکسو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JS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 وارنیر-اور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arnier-Orr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متدولوژ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SP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Business System Planning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  <a:cs typeface="Tahoma"/>
              </a:rPr>
              <a:t>دسته بندی متدولوژی ه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روش های نمونه ساز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 توسعه سری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A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- روش توسعه مشارکت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JAD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Tahoma"/>
              </a:rPr>
              <a:t>دسته بندی متدولوژی ه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Tahoma"/>
                <a:cs typeface="Tahoma"/>
              </a:rPr>
              <a:t>دسته بندی دیگری از متدولوژی ها به ای صورت است 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سنت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ساختیافت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متدولوژی های شی گر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آیا می توان دسته بندی های دیگری نیز از انواع متدولوژی ها ارائه کرد 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5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8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oya</cp:lastModifiedBy>
  <dcterms:modified xsi:type="dcterms:W3CDTF">2010-06-12T17:36:5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